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D7A-5A69-4091-B612-256B356E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148-F0E3-4AA7-9F6E-C2C7CD56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9DE-7916-4B07-A988-9154D718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015-88AB-48A6-BA22-E76F1B53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865-403C-4503-BB05-D3931EE0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313-186D-4FC6-9989-7DECA69A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298-5DFE-4017-8E81-DD75293B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F55-6E80-4A6B-ACBD-82339B24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D5E-FF95-4DB2-BEE3-87FEC739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F43-DDB2-46FA-B8B5-BA905390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D96-E38D-40CC-9786-AE63FAFA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1AD-F6B2-4974-8341-294A6523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848-E3F9-4467-8637-FE6B63DA72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2760" y="16812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Unit S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63680" y="23004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Sec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52480" y="1676520"/>
            <a:ext cx="622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Lighten Your Load and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Save Your Life</a:t>
            </a:r>
            <a:endParaRPr b="1" lang="en-US" sz="4800" spc="1" strike="noStrike">
              <a:ln w="1908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304920" y="1066680"/>
            <a:ext cx="8457840" cy="5562360"/>
            <a:chOff x="304920" y="1066680"/>
            <a:chExt cx="8457840" cy="5562360"/>
          </a:xfrm>
        </p:grpSpPr>
        <p:grpSp>
          <p:nvGrpSpPr>
            <p:cNvPr id="396" name=""/>
            <p:cNvGrpSpPr/>
            <p:nvPr/>
          </p:nvGrpSpPr>
          <p:grpSpPr>
            <a:xfrm>
              <a:off x="4496040" y="1066680"/>
              <a:ext cx="4266720" cy="5562360"/>
              <a:chOff x="4496040" y="1066680"/>
              <a:chExt cx="4266720" cy="5562360"/>
            </a:xfrm>
          </p:grpSpPr>
          <p:pic>
            <p:nvPicPr>
              <p:cNvPr id="3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6040" y="1066680"/>
                <a:ext cx="4266720" cy="55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31840" y="1232280"/>
                <a:ext cx="3863160" cy="520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9" name=""/>
            <p:cNvGrpSpPr/>
            <p:nvPr/>
          </p:nvGrpSpPr>
          <p:grpSpPr>
            <a:xfrm>
              <a:off x="304920" y="1066680"/>
              <a:ext cx="4266720" cy="5562360"/>
              <a:chOff x="304920" y="1066680"/>
              <a:chExt cx="4266720" cy="5562360"/>
            </a:xfrm>
          </p:grpSpPr>
          <p:pic>
            <p:nvPicPr>
              <p:cNvPr id="4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066680"/>
                <a:ext cx="4266720" cy="556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720" y="1232280"/>
                <a:ext cx="3863160" cy="520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2" name=""/>
            <p:cNvSpPr/>
            <p:nvPr/>
          </p:nvSpPr>
          <p:spPr>
            <a:xfrm>
              <a:off x="914400" y="1477800"/>
              <a:ext cx="350532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29200" y="1477800"/>
              <a:ext cx="350532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610520" y="1735200"/>
            <a:ext cx="439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give emphasi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stir in one’s ju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 one’s tr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set one’s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keep sth. in mind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have little or n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over s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75356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feel overwhelm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( with sth.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spin out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ng other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attribute s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sth.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blow one’s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have no 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-914400" y="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Text Analysi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—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-91440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Text Analysi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—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762120" y="1295280"/>
            <a:ext cx="7561080" cy="4648320"/>
          </a:xfrm>
          <a:prstGeom prst="bevel">
            <a:avLst>
              <a:gd name="adj" fmla="val 1495"/>
            </a:avLst>
          </a:prstGeom>
          <a:gradFill rotWithShape="0">
            <a:gsLst>
              <a:gs pos="0">
                <a:srgbClr val="4ab1e4"/>
              </a:gs>
              <a:gs pos="100000">
                <a:srgbClr val="e1f1f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27160" y="1851120"/>
            <a:ext cx="687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98560" y="1698480"/>
            <a:ext cx="69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600200"/>
            <a:ext cx="712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ghten Your Load and Save Your Lif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a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If you often feel angry and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overwhelmed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ke the stress In your life is spinning your out of control, then you may be hearting your he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4191120"/>
            <a:ext cx="6238800" cy="1066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08040" y="4518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191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to feel / be overwhelmed (with…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陷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沉浸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·····;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征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-914400" y="-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Text Analysi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—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2133720"/>
            <a:ext cx="7772400" cy="20574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99ff"/>
              </a:gs>
              <a:gs pos="100000">
                <a:srgbClr val="66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62120" y="838080"/>
            <a:ext cx="7694640" cy="940680"/>
            <a:chOff x="762120" y="838080"/>
            <a:chExt cx="7694640" cy="940680"/>
          </a:xfrm>
        </p:grpSpPr>
        <p:grpSp>
          <p:nvGrpSpPr>
            <p:cNvPr id="421" name=""/>
            <p:cNvGrpSpPr/>
            <p:nvPr/>
          </p:nvGrpSpPr>
          <p:grpSpPr>
            <a:xfrm>
              <a:off x="762120" y="838080"/>
              <a:ext cx="7694640" cy="940680"/>
              <a:chOff x="762120" y="838080"/>
              <a:chExt cx="7694640" cy="940680"/>
            </a:xfrm>
          </p:grpSpPr>
          <p:sp>
            <p:nvSpPr>
              <p:cNvPr id="422" name=""/>
              <p:cNvSpPr/>
              <p:nvPr/>
            </p:nvSpPr>
            <p:spPr>
              <a:xfrm>
                <a:off x="762120" y="838080"/>
                <a:ext cx="7694640" cy="940680"/>
              </a:xfrm>
              <a:prstGeom prst="roundRect">
                <a:avLst>
                  <a:gd name="adj" fmla="val 17509"/>
                </a:avLst>
              </a:prstGeom>
              <a:solidFill>
                <a:srgbClr val="4ab1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07120" y="1512000"/>
                <a:ext cx="7562160" cy="225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b1e4">
                      <a:alpha val="0"/>
                    </a:srgbClr>
                  </a:gs>
                  <a:gs pos="100000">
                    <a:srgbClr val="c1e4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07120" y="866520"/>
                <a:ext cx="7562160" cy="225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2ebf7"/>
                  </a:gs>
                  <a:gs pos="100000">
                    <a:srgbClr val="4ab1e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633400" y="965160"/>
              <a:ext cx="5325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838080" y="838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to feel / be overwhelmed (with…)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陷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沉浸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·····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征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876920" y="213372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3657600" cy="5335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762120" y="4495680"/>
            <a:ext cx="7772400" cy="1981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99ff"/>
              </a:gs>
              <a:gs pos="100000">
                <a:srgbClr val="66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73760" y="2438280"/>
            <a:ext cx="299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上海世博会开幕式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夜晚隆重举行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举国上下沉浸在喜悦和激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60560" y="4724280"/>
            <a:ext cx="72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 grand opening ceremony of the 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 Expo in Shanghai was launched at n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pril 30,  the  whole nation was over-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citement and jo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-91440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Text Analysi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—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20"/>
          <p:cNvGrpSpPr/>
          <p:nvPr/>
        </p:nvGrpSpPr>
        <p:grpSpPr>
          <a:xfrm>
            <a:off x="1905120" y="1295280"/>
            <a:ext cx="5104440" cy="954000"/>
            <a:chOff x="1905120" y="1295280"/>
            <a:chExt cx="5104440" cy="954000"/>
          </a:xfrm>
        </p:grpSpPr>
        <p:grpSp>
          <p:nvGrpSpPr>
            <p:cNvPr id="435" name="Group 21"/>
            <p:cNvGrpSpPr/>
            <p:nvPr/>
          </p:nvGrpSpPr>
          <p:grpSpPr>
            <a:xfrm>
              <a:off x="1905120" y="1380240"/>
              <a:ext cx="5104440" cy="869040"/>
              <a:chOff x="1905120" y="1380240"/>
              <a:chExt cx="5104440" cy="869040"/>
            </a:xfrm>
          </p:grpSpPr>
          <p:sp>
            <p:nvSpPr>
              <p:cNvPr id="436" name="Oval 22"/>
              <p:cNvSpPr/>
              <p:nvPr/>
            </p:nvSpPr>
            <p:spPr>
              <a:xfrm>
                <a:off x="1960920" y="1407960"/>
                <a:ext cx="5048640" cy="841320"/>
              </a:xfrm>
              <a:prstGeom prst="ellipse">
                <a:avLst/>
              </a:prstGeom>
              <a:gradFill rotWithShape="0">
                <a:gsLst>
                  <a:gs pos="0">
                    <a:srgbClr val="f77a1d"/>
                  </a:gs>
                  <a:gs pos="100000">
                    <a:srgbClr val="7c7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23"/>
              <p:cNvSpPr/>
              <p:nvPr/>
            </p:nvSpPr>
            <p:spPr>
              <a:xfrm>
                <a:off x="1905120" y="1380240"/>
                <a:ext cx="50486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8e"/>
                  </a:gs>
                  <a:gs pos="100000">
                    <a:srgbClr val="f77a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Oval 24"/>
            <p:cNvSpPr/>
            <p:nvPr/>
          </p:nvSpPr>
          <p:spPr>
            <a:xfrm>
              <a:off x="2145960" y="1295280"/>
              <a:ext cx="4569840" cy="79920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4ab1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5"/>
            <p:cNvSpPr/>
            <p:nvPr/>
          </p:nvSpPr>
          <p:spPr>
            <a:xfrm>
              <a:off x="2205360" y="1299960"/>
              <a:ext cx="4458960" cy="779400"/>
            </a:xfrm>
            <a:prstGeom prst="ellipse">
              <a:avLst/>
            </a:prstGeom>
            <a:gradFill rotWithShape="0">
              <a:gsLst>
                <a:gs pos="0">
                  <a:srgbClr val="4ab1e4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6"/>
            <p:cNvSpPr/>
            <p:nvPr/>
          </p:nvSpPr>
          <p:spPr>
            <a:xfrm>
              <a:off x="2251080" y="1307520"/>
              <a:ext cx="4242600" cy="72792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4ab1e4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2475360" y="1323720"/>
              <a:ext cx="3734280" cy="590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ab1e4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981160" y="144792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earn an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762120" y="2819520"/>
            <a:ext cx="7771320" cy="990000"/>
            <a:chOff x="762120" y="2819520"/>
            <a:chExt cx="7771320" cy="990000"/>
          </a:xfrm>
        </p:grpSpPr>
        <p:sp>
          <p:nvSpPr>
            <p:cNvPr id="444" name=""/>
            <p:cNvSpPr/>
            <p:nvPr/>
          </p:nvSpPr>
          <p:spPr>
            <a:xfrm>
              <a:off x="762120" y="2819520"/>
              <a:ext cx="7771320" cy="99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83080" y="2879280"/>
              <a:ext cx="7498080" cy="4021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762120" y="4343400"/>
            <a:ext cx="7771320" cy="1980000"/>
            <a:chOff x="762120" y="4343400"/>
            <a:chExt cx="7771320" cy="1980000"/>
          </a:xfrm>
        </p:grpSpPr>
        <p:sp>
          <p:nvSpPr>
            <p:cNvPr id="447" name=""/>
            <p:cNvSpPr/>
            <p:nvPr/>
          </p:nvSpPr>
          <p:spPr>
            <a:xfrm>
              <a:off x="762120" y="4343400"/>
              <a:ext cx="7771320" cy="198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83080" y="4462920"/>
              <a:ext cx="7498080" cy="8042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838080" y="28954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to feel / be overwhelmed (with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陷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沉浸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·····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征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39040" y="449568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得知儿子获得冠军时，他欣喜若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5029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was overwhelmed with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joy at the news that his son won the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79280" y="990720"/>
            <a:ext cx="8748720" cy="5317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3366ff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-91440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Writing Pattern and Practi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-380880" y="1905120"/>
            <a:ext cx="9524880" cy="47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ot says researchers have found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essed people have higher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olesterol leve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ong other things. “We’ve done years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showing that excess alarm or stress chemicals can  literally burst heart muscle fibers. When that happen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ppens very quickly, within five minutes. It cre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short circuits, and that causes crazy he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hythms. The heart beats like a bag of wo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 of a pump. And when tha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ppens, we can’t live.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752480" y="1219320"/>
            <a:ext cx="5638320" cy="685080"/>
            <a:chOff x="1752480" y="1219320"/>
            <a:chExt cx="5638320" cy="685080"/>
          </a:xfrm>
        </p:grpSpPr>
        <p:grpSp>
          <p:nvGrpSpPr>
            <p:cNvPr id="457" name=""/>
            <p:cNvGrpSpPr/>
            <p:nvPr/>
          </p:nvGrpSpPr>
          <p:grpSpPr>
            <a:xfrm>
              <a:off x="1752480" y="1219320"/>
              <a:ext cx="5638320" cy="685080"/>
              <a:chOff x="1752480" y="1219320"/>
              <a:chExt cx="5638320" cy="685080"/>
            </a:xfrm>
          </p:grpSpPr>
          <p:sp>
            <p:nvSpPr>
              <p:cNvPr id="458" name=""/>
              <p:cNvSpPr/>
              <p:nvPr/>
            </p:nvSpPr>
            <p:spPr>
              <a:xfrm>
                <a:off x="1752480" y="1219320"/>
                <a:ext cx="5638320" cy="685080"/>
              </a:xfrm>
              <a:prstGeom prst="roundRect">
                <a:avLst>
                  <a:gd name="adj" fmla="val 17509"/>
                </a:avLst>
              </a:prstGeom>
              <a:solidFill>
                <a:srgbClr val="4ab1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785600" y="1710000"/>
                <a:ext cx="5541120" cy="16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b1e4">
                      <a:alpha val="0"/>
                    </a:srgbClr>
                  </a:gs>
                  <a:gs pos="100000">
                    <a:srgbClr val="c1e4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85600" y="1240200"/>
                <a:ext cx="5541120" cy="16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2ebf7"/>
                  </a:gs>
                  <a:gs pos="100000">
                    <a:srgbClr val="4ab1e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3123360" y="1311840"/>
              <a:ext cx="3902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1907280" y="1143000"/>
            <a:ext cx="51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Para.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hainlike Cause-and-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链式因果关系分析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52280" y="152280"/>
            <a:ext cx="8686800" cy="10000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c91bb"/>
              </a:gs>
              <a:gs pos="100000">
                <a:srgbClr val="4ab1e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3352680"/>
            <a:ext cx="4038480" cy="10000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c91bb"/>
              </a:gs>
              <a:gs pos="100000">
                <a:srgbClr val="4ab1e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4572000"/>
            <a:ext cx="3048120" cy="12193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c91bb"/>
              </a:gs>
              <a:gs pos="100000">
                <a:srgbClr val="4ab1e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5943600"/>
            <a:ext cx="8763120" cy="762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c91bb"/>
              </a:gs>
              <a:gs pos="100000">
                <a:srgbClr val="4ab1e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4572000"/>
            <a:ext cx="5562720" cy="12193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c91bb"/>
              </a:gs>
              <a:gs pos="100000">
                <a:srgbClr val="4ab1e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2280" y="3352680"/>
            <a:ext cx="4496040" cy="10000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c91bb"/>
              </a:gs>
              <a:gs pos="100000">
                <a:srgbClr val="4ab1e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2280" y="2133720"/>
            <a:ext cx="4496040" cy="10000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c91bb"/>
              </a:gs>
              <a:gs pos="100000">
                <a:srgbClr val="4ab1e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2280" y="1295280"/>
            <a:ext cx="8686800" cy="6098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c91bb"/>
              </a:gs>
              <a:gs pos="100000">
                <a:srgbClr val="4ab1e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79440" y="228600"/>
            <a:ext cx="802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ical example of paragraph development through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rt of chain of causes or effect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(Para.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13716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The argument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tress leads to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4080" y="2209680"/>
            <a:ext cx="451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first caus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 al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stress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0840" y="3429000"/>
            <a:ext cx="42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first effec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bur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muscle fi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-108360" y="4572000"/>
            <a:ext cx="579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The second effect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It creates m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hort circuits, and that causes craz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eart rhy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6880" y="586728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third effec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eart beats like a bag of wor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ead of a pump, and we can’t 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33720" y="3124080"/>
            <a:ext cx="4856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80400" y="3429000"/>
            <a:ext cx="36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is is also the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sec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cau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in th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4343400"/>
            <a:ext cx="4856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95680" y="3886200"/>
            <a:ext cx="53352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43800" y="5715000"/>
            <a:ext cx="4856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5181480"/>
            <a:ext cx="533160" cy="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15000" y="4724280"/>
            <a:ext cx="32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lso th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i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20"/>
          <p:cNvGrpSpPr/>
          <p:nvPr/>
        </p:nvGrpSpPr>
        <p:grpSpPr>
          <a:xfrm>
            <a:off x="1905120" y="838080"/>
            <a:ext cx="5104440" cy="837720"/>
            <a:chOff x="1905120" y="838080"/>
            <a:chExt cx="5104440" cy="837720"/>
          </a:xfrm>
        </p:grpSpPr>
        <p:grpSp>
          <p:nvGrpSpPr>
            <p:cNvPr id="487" name="Group 21"/>
            <p:cNvGrpSpPr/>
            <p:nvPr/>
          </p:nvGrpSpPr>
          <p:grpSpPr>
            <a:xfrm>
              <a:off x="1905120" y="912600"/>
              <a:ext cx="5104440" cy="763200"/>
              <a:chOff x="1905120" y="912600"/>
              <a:chExt cx="5104440" cy="763200"/>
            </a:xfrm>
          </p:grpSpPr>
          <p:sp>
            <p:nvSpPr>
              <p:cNvPr id="488" name="Oval 22"/>
              <p:cNvSpPr/>
              <p:nvPr/>
            </p:nvSpPr>
            <p:spPr>
              <a:xfrm>
                <a:off x="1960920" y="936720"/>
                <a:ext cx="5048640" cy="739080"/>
              </a:xfrm>
              <a:prstGeom prst="ellipse">
                <a:avLst/>
              </a:prstGeom>
              <a:gradFill rotWithShape="0">
                <a:gsLst>
                  <a:gs pos="0">
                    <a:srgbClr val="f77a1d"/>
                  </a:gs>
                  <a:gs pos="100000">
                    <a:srgbClr val="7c7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23"/>
              <p:cNvSpPr/>
              <p:nvPr/>
            </p:nvSpPr>
            <p:spPr>
              <a:xfrm>
                <a:off x="1905120" y="912600"/>
                <a:ext cx="5048640" cy="739080"/>
              </a:xfrm>
              <a:prstGeom prst="ellipse">
                <a:avLst/>
              </a:prstGeom>
              <a:gradFill rotWithShape="0">
                <a:gsLst>
                  <a:gs pos="0">
                    <a:srgbClr val="ffff8e"/>
                  </a:gs>
                  <a:gs pos="100000">
                    <a:srgbClr val="f77a1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Oval 24"/>
            <p:cNvSpPr/>
            <p:nvPr/>
          </p:nvSpPr>
          <p:spPr>
            <a:xfrm>
              <a:off x="2145960" y="838080"/>
              <a:ext cx="4569840" cy="702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4ab1e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25"/>
            <p:cNvSpPr/>
            <p:nvPr/>
          </p:nvSpPr>
          <p:spPr>
            <a:xfrm>
              <a:off x="2205360" y="842040"/>
              <a:ext cx="4458960" cy="684720"/>
            </a:xfrm>
            <a:prstGeom prst="ellipse">
              <a:avLst/>
            </a:prstGeom>
            <a:gradFill rotWithShape="0">
              <a:gsLst>
                <a:gs pos="0">
                  <a:srgbClr val="4ab1e4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26"/>
            <p:cNvSpPr/>
            <p:nvPr/>
          </p:nvSpPr>
          <p:spPr>
            <a:xfrm>
              <a:off x="2251080" y="848880"/>
              <a:ext cx="4242600" cy="63972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4ab1e4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27"/>
            <p:cNvSpPr/>
            <p:nvPr/>
          </p:nvSpPr>
          <p:spPr>
            <a:xfrm>
              <a:off x="2475360" y="862920"/>
              <a:ext cx="3734280" cy="51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ab1e4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-91440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Writing Pattern and Practi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62120" y="1828800"/>
            <a:ext cx="7771320" cy="837720"/>
            <a:chOff x="762120" y="1828800"/>
            <a:chExt cx="7771320" cy="837720"/>
          </a:xfrm>
        </p:grpSpPr>
        <p:sp>
          <p:nvSpPr>
            <p:cNvPr id="496" name=""/>
            <p:cNvSpPr/>
            <p:nvPr/>
          </p:nvSpPr>
          <p:spPr>
            <a:xfrm>
              <a:off x="762120" y="1828800"/>
              <a:ext cx="7771320" cy="83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83080" y="1879200"/>
              <a:ext cx="7498080" cy="3402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762120" y="2819520"/>
            <a:ext cx="7771320" cy="3350520"/>
            <a:chOff x="762120" y="2819520"/>
            <a:chExt cx="7771320" cy="3350520"/>
          </a:xfrm>
        </p:grpSpPr>
        <p:sp>
          <p:nvSpPr>
            <p:cNvPr id="499" name=""/>
            <p:cNvSpPr/>
            <p:nvPr/>
          </p:nvSpPr>
          <p:spPr>
            <a:xfrm>
              <a:off x="762120" y="2819520"/>
              <a:ext cx="7771320" cy="3350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3080" y="3021840"/>
              <a:ext cx="7498080" cy="1360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3057120" y="91440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earn an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981080"/>
            <a:ext cx="80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opic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ack has been depressed rec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73160" y="3200400"/>
            <a:ext cx="6916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 not passing the final exam of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 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E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ecoming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1677600" y="228600"/>
            <a:ext cx="55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and 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848720" y="304920"/>
            <a:ext cx="761760" cy="8143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14320"/>
              <a:gd name="textAreaBottom" fmla="*/ 765000 h 814320"/>
            </a:gdLst>
            <a:ahLst/>
            <a:rect l="textAreaLeft" t="textAreaTop" r="textAreaRight" b="textAreaBottom"/>
            <a:pathLst>
              <a:path w="21600" h="23090">
                <a:moveTo>
                  <a:pt x="0" y="0"/>
                </a:moveTo>
                <a:lnTo>
                  <a:pt x="21600" y="0"/>
                </a:lnTo>
                <a:lnTo>
                  <a:pt x="21600" y="23090"/>
                </a:lnTo>
                <a:lnTo>
                  <a:pt x="0" y="23090"/>
                </a:lnTo>
                <a:close/>
              </a:path>
              <a:path fill="lightenLess" w="21600" h="230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90">
                <a:moveTo>
                  <a:pt x="21600" y="0"/>
                </a:moveTo>
                <a:lnTo>
                  <a:pt x="21600" y="23090"/>
                </a:lnTo>
                <a:lnTo>
                  <a:pt x="20200" y="21690"/>
                </a:lnTo>
                <a:lnTo>
                  <a:pt x="20200" y="1400"/>
                </a:lnTo>
                <a:close/>
              </a:path>
              <a:path fill="darkenLess" w="21600" h="23090">
                <a:moveTo>
                  <a:pt x="21600" y="23090"/>
                </a:moveTo>
                <a:lnTo>
                  <a:pt x="0" y="23090"/>
                </a:lnTo>
                <a:lnTo>
                  <a:pt x="1400" y="21690"/>
                </a:lnTo>
                <a:lnTo>
                  <a:pt x="20200" y="21690"/>
                </a:lnTo>
                <a:close/>
              </a:path>
              <a:path fill="lighten" w="21600" h="23090">
                <a:moveTo>
                  <a:pt x="0" y="230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90"/>
                </a:lnTo>
                <a:close/>
              </a:path>
              <a:path fill="darken" w="21600" h="23090">
                <a:moveTo>
                  <a:pt x="3794" y="8046"/>
                </a:moveTo>
                <a:lnTo>
                  <a:pt x="4707" y="8046"/>
                </a:lnTo>
                <a:lnTo>
                  <a:pt x="5090" y="8411"/>
                </a:lnTo>
                <a:lnTo>
                  <a:pt x="14299" y="8411"/>
                </a:lnTo>
                <a:lnTo>
                  <a:pt x="14856" y="8969"/>
                </a:lnTo>
                <a:lnTo>
                  <a:pt x="14856" y="9517"/>
                </a:lnTo>
                <a:lnTo>
                  <a:pt x="16701" y="9517"/>
                </a:lnTo>
                <a:lnTo>
                  <a:pt x="17067" y="8969"/>
                </a:lnTo>
                <a:lnTo>
                  <a:pt x="17806" y="8969"/>
                </a:lnTo>
                <a:lnTo>
                  <a:pt x="17806" y="14121"/>
                </a:lnTo>
                <a:lnTo>
                  <a:pt x="17067" y="14121"/>
                </a:lnTo>
                <a:lnTo>
                  <a:pt x="16701" y="13573"/>
                </a:lnTo>
                <a:lnTo>
                  <a:pt x="14856" y="13573"/>
                </a:lnTo>
                <a:lnTo>
                  <a:pt x="14856" y="14852"/>
                </a:lnTo>
                <a:lnTo>
                  <a:pt x="5273" y="14852"/>
                </a:lnTo>
                <a:lnTo>
                  <a:pt x="5273" y="10622"/>
                </a:lnTo>
                <a:lnTo>
                  <a:pt x="5090" y="10622"/>
                </a:lnTo>
                <a:lnTo>
                  <a:pt x="4707" y="10988"/>
                </a:lnTo>
                <a:lnTo>
                  <a:pt x="3794" y="109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295280"/>
            <a:ext cx="7848720" cy="45720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99ff"/>
              </a:gs>
              <a:gs pos="100000">
                <a:srgbClr val="66ffff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62360" y="1905120"/>
            <a:ext cx="6212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can’t avoid all stre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ut you can counteract 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egative effects by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ow to take control of it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ith a relaxed min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erry mood, people w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raw their talents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ull, thus making gre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ontributions and enjoying happier l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222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Assig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74"/>
          <p:cNvSpPr/>
          <p:nvPr/>
        </p:nvSpPr>
        <p:spPr>
          <a:xfrm>
            <a:off x="3516480" y="1844640"/>
            <a:ext cx="5170320" cy="43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5"/>
          <p:cNvSpPr/>
          <p:nvPr/>
        </p:nvSpPr>
        <p:spPr>
          <a:xfrm>
            <a:off x="3276720" y="19051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《读写教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X. II---VII, P160---1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76"/>
          <p:cNvSpPr/>
          <p:nvPr/>
        </p:nvSpPr>
        <p:spPr>
          <a:xfrm>
            <a:off x="3505320" y="5105520"/>
            <a:ext cx="5181480" cy="436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8"/>
          <p:cNvSpPr/>
          <p:nvPr/>
        </p:nvSpPr>
        <p:spPr>
          <a:xfrm>
            <a:off x="3505320" y="2514600"/>
            <a:ext cx="5181480" cy="884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83"/>
          <p:cNvSpPr/>
          <p:nvPr/>
        </p:nvSpPr>
        <p:spPr>
          <a:xfrm>
            <a:off x="3505320" y="3733920"/>
            <a:ext cx="5257800" cy="1152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8"/>
          <p:cNvGrpSpPr/>
          <p:nvPr/>
        </p:nvGrpSpPr>
        <p:grpSpPr>
          <a:xfrm>
            <a:off x="2502000" y="2072880"/>
            <a:ext cx="979200" cy="447480"/>
            <a:chOff x="2502000" y="2072880"/>
            <a:chExt cx="979200" cy="447480"/>
          </a:xfrm>
        </p:grpSpPr>
        <p:sp>
          <p:nvSpPr>
            <p:cNvPr id="520" name="Line 69"/>
            <p:cNvSpPr/>
            <p:nvPr/>
          </p:nvSpPr>
          <p:spPr>
            <a:xfrm>
              <a:off x="2878920" y="2073240"/>
              <a:ext cx="602280" cy="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70"/>
            <p:cNvSpPr/>
            <p:nvPr/>
          </p:nvSpPr>
          <p:spPr>
            <a:xfrm flipV="1">
              <a:off x="2502000" y="2072880"/>
              <a:ext cx="376920" cy="4474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71"/>
          <p:cNvGrpSpPr/>
          <p:nvPr/>
        </p:nvGrpSpPr>
        <p:grpSpPr>
          <a:xfrm>
            <a:off x="2286000" y="4572000"/>
            <a:ext cx="1195200" cy="710640"/>
            <a:chOff x="2286000" y="4572000"/>
            <a:chExt cx="1195200" cy="710640"/>
          </a:xfrm>
        </p:grpSpPr>
        <p:sp>
          <p:nvSpPr>
            <p:cNvPr id="523" name="Line 72"/>
            <p:cNvSpPr/>
            <p:nvPr/>
          </p:nvSpPr>
          <p:spPr>
            <a:xfrm>
              <a:off x="2798280" y="5282640"/>
              <a:ext cx="682920" cy="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3"/>
            <p:cNvSpPr/>
            <p:nvPr/>
          </p:nvSpPr>
          <p:spPr>
            <a:xfrm>
              <a:off x="2286000" y="4572000"/>
              <a:ext cx="512280" cy="71064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Oval 80"/>
          <p:cNvSpPr/>
          <p:nvPr/>
        </p:nvSpPr>
        <p:spPr>
          <a:xfrm>
            <a:off x="3436920" y="1962000"/>
            <a:ext cx="203040" cy="204840"/>
          </a:xfrm>
          <a:prstGeom prst="ellipse">
            <a:avLst/>
          </a:prstGeom>
          <a:gradFill rotWithShape="0">
            <a:gsLst>
              <a:gs pos="0">
                <a:srgbClr val="4ab1e4"/>
              </a:gs>
              <a:gs pos="100000">
                <a:srgbClr val="22516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5"/>
          <p:cNvSpPr/>
          <p:nvPr/>
        </p:nvSpPr>
        <p:spPr>
          <a:xfrm flipV="1">
            <a:off x="2666880" y="3048120"/>
            <a:ext cx="770040" cy="144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2438280" y="4343400"/>
            <a:ext cx="998640" cy="144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81"/>
          <p:cNvSpPr/>
          <p:nvPr/>
        </p:nvSpPr>
        <p:spPr>
          <a:xfrm>
            <a:off x="3429000" y="2895480"/>
            <a:ext cx="203040" cy="20484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41014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2"/>
          <p:cNvSpPr/>
          <p:nvPr/>
        </p:nvSpPr>
        <p:spPr>
          <a:xfrm>
            <a:off x="3429000" y="4267080"/>
            <a:ext cx="203040" cy="204840"/>
          </a:xfrm>
          <a:prstGeom prst="ellipse">
            <a:avLst/>
          </a:prstGeom>
          <a:gradFill rotWithShape="0">
            <a:gsLst>
              <a:gs pos="0">
                <a:srgbClr val="4ab1e4"/>
              </a:gs>
              <a:gs pos="100000">
                <a:srgbClr val="22516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85"/>
          <p:cNvSpPr/>
          <p:nvPr/>
        </p:nvSpPr>
        <p:spPr>
          <a:xfrm>
            <a:off x="3429000" y="5181480"/>
            <a:ext cx="203040" cy="20484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41014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03360" y="2270160"/>
            <a:ext cx="2368440" cy="2365200"/>
            <a:chOff x="603360" y="2270160"/>
            <a:chExt cx="2368440" cy="2365200"/>
          </a:xfrm>
        </p:grpSpPr>
        <p:sp>
          <p:nvSpPr>
            <p:cNvPr id="532" name=""/>
            <p:cNvSpPr/>
            <p:nvPr/>
          </p:nvSpPr>
          <p:spPr>
            <a:xfrm>
              <a:off x="603360" y="2270160"/>
              <a:ext cx="2368440" cy="2365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ab1e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9240" y="2422800"/>
              <a:ext cx="2054880" cy="2056320"/>
            </a:xfrm>
            <a:prstGeom prst="ellipse">
              <a:avLst/>
            </a:prstGeom>
            <a:gradFill rotWithShape="0">
              <a:gsLst>
                <a:gs pos="0">
                  <a:srgbClr val="275f7a"/>
                </a:gs>
                <a:gs pos="50000">
                  <a:srgbClr val="4ab1e4"/>
                </a:gs>
                <a:gs pos="100000">
                  <a:srgbClr val="275f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160" y="2406240"/>
              <a:ext cx="2054880" cy="2054520"/>
            </a:xfrm>
            <a:prstGeom prst="ellipse">
              <a:avLst/>
            </a:prstGeom>
            <a:gradFill rotWithShape="0">
              <a:gsLst>
                <a:gs pos="0">
                  <a:srgbClr val="4ab1e4">
                    <a:alpha val="0"/>
                  </a:srgbClr>
                </a:gs>
                <a:gs pos="100000">
                  <a:srgbClr val="2e709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60400" y="2527200"/>
              <a:ext cx="1851840" cy="1849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89920" y="2556360"/>
              <a:ext cx="1794600" cy="17946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12600" y="2566440"/>
              <a:ext cx="1752120" cy="1751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32400" y="2583360"/>
              <a:ext cx="1665000" cy="16358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29240" y="2629800"/>
              <a:ext cx="1480680" cy="132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98"/>
          <p:cNvSpPr/>
          <p:nvPr/>
        </p:nvSpPr>
        <p:spPr>
          <a:xfrm>
            <a:off x="838080" y="328464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80808"/>
                </a:solidFill>
                <a:latin typeface="Arial Black"/>
              </a:rPr>
              <a:t>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27440" y="2590920"/>
            <a:ext cx="451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riting: Cause-and-Effect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: Practice Makes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00640" y="3886200"/>
            <a:ext cx="535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bate: Do you think there is some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about stress?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53000" y="5105520"/>
            <a:ext cx="47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commended English song: Her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1905120" y="182880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00200" y="1523880"/>
            <a:ext cx="6323760" cy="4152960"/>
            <a:chOff x="1600200" y="1523880"/>
            <a:chExt cx="6323760" cy="4152960"/>
          </a:xfrm>
        </p:grpSpPr>
        <p:grpSp>
          <p:nvGrpSpPr>
            <p:cNvPr id="48" name=""/>
            <p:cNvGrpSpPr/>
            <p:nvPr/>
          </p:nvGrpSpPr>
          <p:grpSpPr>
            <a:xfrm>
              <a:off x="1643760" y="1523880"/>
              <a:ext cx="6280200" cy="612360"/>
              <a:chOff x="1643760" y="1523880"/>
              <a:chExt cx="6280200" cy="612360"/>
            </a:xfrm>
          </p:grpSpPr>
          <p:sp>
            <p:nvSpPr>
              <p:cNvPr id="49" name=""/>
              <p:cNvSpPr/>
              <p:nvPr/>
            </p:nvSpPr>
            <p:spPr>
              <a:xfrm>
                <a:off x="1643760" y="1523880"/>
                <a:ext cx="6280200" cy="612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9c2c7"/>
                  </a:gs>
                  <a:gs pos="50000">
                    <a:srgbClr val="d3d9dc"/>
                  </a:gs>
                  <a:gs pos="100000">
                    <a:srgbClr val="b9c2c7"/>
                  </a:gs>
                </a:gsLst>
                <a:lin ang="5400000"/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764840" y="1635480"/>
                <a:ext cx="69120" cy="374760"/>
                <a:chOff x="7764840" y="1635480"/>
                <a:chExt cx="69120" cy="374760"/>
              </a:xfrm>
            </p:grpSpPr>
            <p:sp>
              <p:nvSpPr>
                <p:cNvPr id="51" name=""/>
                <p:cNvSpPr/>
                <p:nvPr/>
              </p:nvSpPr>
              <p:spPr>
                <a:xfrm flipH="1" flipV="1">
                  <a:off x="7808040" y="19807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H="1" flipV="1">
                  <a:off x="7764480" y="19807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 flipV="1">
                  <a:off x="7808040" y="192744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H="1" flipV="1">
                  <a:off x="7808040" y="16351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 flipV="1">
                  <a:off x="7766280" y="16351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flipV="1">
                  <a:off x="7808040" y="168696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887120" y="1733760"/>
                <a:ext cx="210600" cy="216000"/>
                <a:chOff x="1887120" y="1733760"/>
                <a:chExt cx="210600" cy="2160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887120" y="1733760"/>
                  <a:ext cx="205920" cy="213480"/>
                </a:xfrm>
                <a:prstGeom prst="ellipse">
                  <a:avLst/>
                </a:prstGeom>
                <a:solidFill>
                  <a:srgbClr val="eaeaea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" name=""/>
                <p:cNvGrpSpPr/>
                <p:nvPr/>
              </p:nvGrpSpPr>
              <p:grpSpPr>
                <a:xfrm>
                  <a:off x="1893240" y="1740240"/>
                  <a:ext cx="201600" cy="209520"/>
                  <a:chOff x="1893240" y="1740240"/>
                  <a:chExt cx="201600" cy="209520"/>
                </a:xfrm>
              </p:grpSpPr>
              <p:pic>
                <p:nvPicPr>
                  <p:cNvPr id="60" name="" descr=""/>
                  <p:cNvPicPr/>
                  <p:nvPr/>
                </p:nvPicPr>
                <p:blipFill>
                  <a:blip r:embed="rId2">
                    <a:lum bright="-24000"/>
                  </a:blip>
                  <a:stretch/>
                </p:blipFill>
                <p:spPr>
                  <a:xfrm>
                    <a:off x="1893240" y="1740240"/>
                    <a:ext cx="191520" cy="19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1" name=""/>
                  <p:cNvSpPr/>
                  <p:nvPr/>
                </p:nvSpPr>
                <p:spPr>
                  <a:xfrm>
                    <a:off x="1893240" y="1740240"/>
                    <a:ext cx="193680" cy="19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f038f"/>
                      </a:gs>
                      <a:gs pos="100000">
                        <a:srgbClr val="410141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rcRect l="0" t="14289" r="0" b="0"/>
                  <a:stretch/>
                </p:blipFill>
                <p:spPr>
                  <a:xfrm>
                    <a:off x="1894680" y="1748880"/>
                    <a:ext cx="142560" cy="1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63" name=""/>
                  <p:cNvGrpSpPr/>
                  <p:nvPr/>
                </p:nvGrpSpPr>
                <p:grpSpPr>
                  <a:xfrm>
                    <a:off x="1953360" y="1820880"/>
                    <a:ext cx="141480" cy="128880"/>
                    <a:chOff x="1953360" y="1820880"/>
                    <a:chExt cx="141480" cy="128880"/>
                  </a:xfrm>
                </p:grpSpPr>
                <p:grpSp>
                  <p:nvGrpSpPr>
                    <p:cNvPr id="64" name=""/>
                    <p:cNvGrpSpPr/>
                    <p:nvPr/>
                  </p:nvGrpSpPr>
                  <p:grpSpPr>
                    <a:xfrm>
                      <a:off x="1985400" y="1820880"/>
                      <a:ext cx="109440" cy="127440"/>
                      <a:chOff x="1985400" y="1820880"/>
                      <a:chExt cx="109440" cy="127440"/>
                    </a:xfrm>
                  </p:grpSpPr>
                  <p:sp>
                    <p:nvSpPr>
                      <p:cNvPr id="65" name=""/>
                      <p:cNvSpPr/>
                      <p:nvPr/>
                    </p:nvSpPr>
                    <p:spPr>
                      <a:xfrm flipH="1" flipV="1" rot="1528800">
                        <a:off x="2046240" y="182088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6" name=""/>
                      <p:cNvSpPr/>
                      <p:nvPr/>
                    </p:nvSpPr>
                    <p:spPr>
                      <a:xfrm flipH="1" flipV="1" rot="2344200">
                        <a:off x="2038320" y="18363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" name=""/>
                      <p:cNvSpPr/>
                      <p:nvPr/>
                    </p:nvSpPr>
                    <p:spPr>
                      <a:xfrm flipH="1" flipV="1" rot="2640000">
                        <a:off x="2031480" y="1843920"/>
                        <a:ext cx="2556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" name=""/>
                      <p:cNvSpPr/>
                      <p:nvPr/>
                    </p:nvSpPr>
                    <p:spPr>
                      <a:xfrm flipH="1" flipV="1" rot="3172200">
                        <a:off x="2022480" y="185292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" name=""/>
                    <p:cNvGrpSpPr/>
                    <p:nvPr/>
                  </p:nvGrpSpPr>
                  <p:grpSpPr>
                    <a:xfrm>
                      <a:off x="1953360" y="1856160"/>
                      <a:ext cx="137520" cy="93600"/>
                      <a:chOff x="1953360" y="1856160"/>
                      <a:chExt cx="137520" cy="93600"/>
                    </a:xfrm>
                  </p:grpSpPr>
                  <p:sp>
                    <p:nvSpPr>
                      <p:cNvPr id="70" name=""/>
                      <p:cNvSpPr/>
                      <p:nvPr/>
                    </p:nvSpPr>
                    <p:spPr>
                      <a:xfrm flipH="1" flipV="1" rot="2881800">
                        <a:off x="2029680" y="18471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" name=""/>
                      <p:cNvSpPr/>
                      <p:nvPr/>
                    </p:nvSpPr>
                    <p:spPr>
                      <a:xfrm flipH="1" flipV="1" rot="3697200">
                        <a:off x="2015640" y="1857960"/>
                        <a:ext cx="2556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" name=""/>
                      <p:cNvSpPr/>
                      <p:nvPr/>
                    </p:nvSpPr>
                    <p:spPr>
                      <a:xfrm flipH="1" flipV="1" rot="3993000">
                        <a:off x="2006640" y="186372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" name=""/>
                      <p:cNvSpPr/>
                      <p:nvPr/>
                    </p:nvSpPr>
                    <p:spPr>
                      <a:xfrm flipH="1" flipV="1" rot="4525200">
                        <a:off x="1994400" y="18687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1974960" y="1827720"/>
                  <a:ext cx="122760" cy="112320"/>
                  <a:chOff x="1974960" y="1827720"/>
                  <a:chExt cx="122760" cy="112320"/>
                </a:xfrm>
              </p:grpSpPr>
              <p:grpSp>
                <p:nvGrpSpPr>
                  <p:cNvPr id="75" name=""/>
                  <p:cNvGrpSpPr/>
                  <p:nvPr/>
                </p:nvGrpSpPr>
                <p:grpSpPr>
                  <a:xfrm>
                    <a:off x="2003400" y="1827720"/>
                    <a:ext cx="94320" cy="111600"/>
                    <a:chOff x="2003400" y="1827720"/>
                    <a:chExt cx="94320" cy="11160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 flipH="1" flipV="1" rot="1528800">
                      <a:off x="2055960" y="182772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H="1" flipV="1" rot="2344200">
                      <a:off x="2048760" y="184068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H="1" flipV="1" rot="2640000">
                      <a:off x="2043360" y="184752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 flipH="1" flipV="1" rot="3172200">
                      <a:off x="2036520" y="185580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"/>
                  <p:cNvGrpSpPr/>
                  <p:nvPr/>
                </p:nvGrpSpPr>
                <p:grpSpPr>
                  <a:xfrm>
                    <a:off x="1974960" y="1858680"/>
                    <a:ext cx="119880" cy="81360"/>
                    <a:chOff x="1974960" y="1858680"/>
                    <a:chExt cx="119880" cy="8136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 flipH="1" flipV="1" rot="2881800">
                      <a:off x="2041920" y="185040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 flipH="1" flipV="1" rot="3697200">
                      <a:off x="2029320" y="185976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flipH="1" flipV="1" rot="3993000">
                      <a:off x="2021400" y="186408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flipH="1" flipV="1" rot="4525200">
                      <a:off x="2012040" y="186840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5" name=""/>
              <p:cNvGrpSpPr/>
              <p:nvPr/>
            </p:nvGrpSpPr>
            <p:grpSpPr>
              <a:xfrm>
                <a:off x="2258280" y="1635840"/>
                <a:ext cx="5250240" cy="401040"/>
                <a:chOff x="2258280" y="1635840"/>
                <a:chExt cx="5250240" cy="4010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258280" y="1635840"/>
                  <a:ext cx="5245560" cy="401040"/>
                </a:xfrm>
                <a:prstGeom prst="roundRect">
                  <a:avLst>
                    <a:gd name="adj" fmla="val 12736"/>
                  </a:avLst>
                </a:prstGeom>
                <a:gradFill rotWithShape="0">
                  <a:gsLst>
                    <a:gs pos="0">
                      <a:srgbClr val="7a027a"/>
                    </a:gs>
                    <a:gs pos="100000">
                      <a:srgbClr val="8f038f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53753" dir="2700000" blurRad="0" rotWithShape="0">
                    <a:srgbClr val="550155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264040" y="1636560"/>
                  <a:ext cx="5244480" cy="160200"/>
                </a:xfrm>
                <a:prstGeom prst="roundRect">
                  <a:avLst>
                    <a:gd name="adj" fmla="val 30769"/>
                  </a:avLst>
                </a:prstGeom>
                <a:gradFill rotWithShape="0">
                  <a:gsLst>
                    <a:gs pos="0">
                      <a:srgbClr val="8f038f"/>
                    </a:gs>
                    <a:gs pos="100000">
                      <a:srgbClr val="a22fa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2347200" y="1595160"/>
                <a:ext cx="51148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.Warm-up Exerci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643760" y="2577960"/>
              <a:ext cx="6280200" cy="612720"/>
              <a:chOff x="1643760" y="2577960"/>
              <a:chExt cx="6280200" cy="612720"/>
            </a:xfrm>
          </p:grpSpPr>
          <p:sp>
            <p:nvSpPr>
              <p:cNvPr id="90" name=""/>
              <p:cNvSpPr/>
              <p:nvPr/>
            </p:nvSpPr>
            <p:spPr>
              <a:xfrm>
                <a:off x="1643760" y="2577960"/>
                <a:ext cx="6280200" cy="612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9c2c7"/>
                  </a:gs>
                  <a:gs pos="50000">
                    <a:srgbClr val="d3d9dc"/>
                  </a:gs>
                  <a:gs pos="100000">
                    <a:srgbClr val="b9c2c7"/>
                  </a:gs>
                </a:gsLst>
                <a:lin ang="5400000"/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7764840" y="2689560"/>
                <a:ext cx="69120" cy="374400"/>
                <a:chOff x="7764840" y="2689560"/>
                <a:chExt cx="69120" cy="374400"/>
              </a:xfrm>
            </p:grpSpPr>
            <p:sp>
              <p:nvSpPr>
                <p:cNvPr id="92" name=""/>
                <p:cNvSpPr/>
                <p:nvPr/>
              </p:nvSpPr>
              <p:spPr>
                <a:xfrm flipH="1" flipV="1">
                  <a:off x="7808040" y="303444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 flipV="1">
                  <a:off x="7764480" y="303444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 flipV="1">
                  <a:off x="7808040" y="298116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 flipV="1">
                  <a:off x="7808040" y="268920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flipV="1">
                  <a:off x="7766280" y="268920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flipV="1">
                  <a:off x="7808040" y="274104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887120" y="2787840"/>
                <a:ext cx="210600" cy="216000"/>
                <a:chOff x="1887120" y="2787840"/>
                <a:chExt cx="210600" cy="2160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887120" y="2787840"/>
                  <a:ext cx="205920" cy="213480"/>
                </a:xfrm>
                <a:prstGeom prst="ellipse">
                  <a:avLst/>
                </a:prstGeom>
                <a:solidFill>
                  <a:srgbClr val="eaeaea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"/>
                <p:cNvGrpSpPr/>
                <p:nvPr/>
              </p:nvGrpSpPr>
              <p:grpSpPr>
                <a:xfrm>
                  <a:off x="1893240" y="2794320"/>
                  <a:ext cx="201600" cy="209520"/>
                  <a:chOff x="1893240" y="2794320"/>
                  <a:chExt cx="201600" cy="209520"/>
                </a:xfrm>
              </p:grpSpPr>
              <p:pic>
                <p:nvPicPr>
                  <p:cNvPr id="101" name="" descr=""/>
                  <p:cNvPicPr/>
                  <p:nvPr/>
                </p:nvPicPr>
                <p:blipFill>
                  <a:blip r:embed="rId4">
                    <a:lum bright="-24000"/>
                  </a:blip>
                  <a:stretch/>
                </p:blipFill>
                <p:spPr>
                  <a:xfrm>
                    <a:off x="1893240" y="2794320"/>
                    <a:ext cx="191520" cy="19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" name=""/>
                  <p:cNvSpPr/>
                  <p:nvPr/>
                </p:nvSpPr>
                <p:spPr>
                  <a:xfrm>
                    <a:off x="1893240" y="2794320"/>
                    <a:ext cx="193680" cy="19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77a1d"/>
                      </a:gs>
                      <a:gs pos="100000">
                        <a:srgbClr val="71380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rcRect l="0" t="14289" r="0" b="0"/>
                  <a:stretch/>
                </p:blipFill>
                <p:spPr>
                  <a:xfrm>
                    <a:off x="1894680" y="2802960"/>
                    <a:ext cx="142560" cy="1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953360" y="2874960"/>
                    <a:ext cx="141480" cy="128880"/>
                    <a:chOff x="1953360" y="2874960"/>
                    <a:chExt cx="141480" cy="128880"/>
                  </a:xfrm>
                </p:grpSpPr>
                <p:grpSp>
                  <p:nvGrpSpPr>
                    <p:cNvPr id="105" name=""/>
                    <p:cNvGrpSpPr/>
                    <p:nvPr/>
                  </p:nvGrpSpPr>
                  <p:grpSpPr>
                    <a:xfrm>
                      <a:off x="1985400" y="2874960"/>
                      <a:ext cx="109440" cy="127440"/>
                      <a:chOff x="1985400" y="2874960"/>
                      <a:chExt cx="109440" cy="127440"/>
                    </a:xfrm>
                  </p:grpSpPr>
                  <p:sp>
                    <p:nvSpPr>
                      <p:cNvPr id="106" name=""/>
                      <p:cNvSpPr/>
                      <p:nvPr/>
                    </p:nvSpPr>
                    <p:spPr>
                      <a:xfrm flipH="1" flipV="1" rot="1528800">
                        <a:off x="2046240" y="28749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 flipH="1" flipV="1" rot="2344200">
                        <a:off x="2038320" y="289044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 flipH="1" flipV="1" rot="2640000">
                        <a:off x="2031480" y="2898000"/>
                        <a:ext cx="2556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 flipH="1" flipV="1" rot="3172200">
                        <a:off x="2022480" y="290700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" name=""/>
                    <p:cNvGrpSpPr/>
                    <p:nvPr/>
                  </p:nvGrpSpPr>
                  <p:grpSpPr>
                    <a:xfrm>
                      <a:off x="1953360" y="2910240"/>
                      <a:ext cx="137520" cy="93600"/>
                      <a:chOff x="1953360" y="2910240"/>
                      <a:chExt cx="137520" cy="93600"/>
                    </a:xfrm>
                  </p:grpSpPr>
                  <p:sp>
                    <p:nvSpPr>
                      <p:cNvPr id="111" name=""/>
                      <p:cNvSpPr/>
                      <p:nvPr/>
                    </p:nvSpPr>
                    <p:spPr>
                      <a:xfrm flipH="1" flipV="1" rot="2881800">
                        <a:off x="2029680" y="290124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 flipH="1" flipV="1" rot="3697200">
                        <a:off x="2015640" y="2912040"/>
                        <a:ext cx="2556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 flipH="1" flipV="1" rot="3993000">
                        <a:off x="2006640" y="291780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 flipH="1" flipV="1" rot="4525200">
                        <a:off x="1994400" y="292284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1974960" y="2881800"/>
                  <a:ext cx="122760" cy="112320"/>
                  <a:chOff x="1974960" y="2881800"/>
                  <a:chExt cx="122760" cy="112320"/>
                </a:xfrm>
              </p:grpSpPr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2003400" y="2881800"/>
                    <a:ext cx="94320" cy="111600"/>
                    <a:chOff x="2003400" y="2881800"/>
                    <a:chExt cx="94320" cy="111600"/>
                  </a:xfrm>
                </p:grpSpPr>
                <p:sp>
                  <p:nvSpPr>
                    <p:cNvPr id="117" name=""/>
                    <p:cNvSpPr/>
                    <p:nvPr/>
                  </p:nvSpPr>
                  <p:spPr>
                    <a:xfrm flipH="1" flipV="1" rot="1528800">
                      <a:off x="2055960" y="288180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flipH="1" flipV="1" rot="2344200">
                      <a:off x="2048760" y="289476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 flipH="1" flipV="1" rot="2640000">
                      <a:off x="2043360" y="290160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 flipH="1" flipV="1" rot="3172200">
                      <a:off x="2036520" y="290988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1974960" y="2912760"/>
                    <a:ext cx="119880" cy="81360"/>
                    <a:chOff x="1974960" y="2912760"/>
                    <a:chExt cx="119880" cy="8136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 flipH="1" flipV="1" rot="2881800">
                      <a:off x="2041920" y="290448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flipH="1" flipV="1" rot="3697200">
                      <a:off x="2029320" y="291384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 flipH="1" flipV="1" rot="3993000">
                      <a:off x="2021400" y="291816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 flipH="1" flipV="1" rot="4525200">
                      <a:off x="2012040" y="292248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6" name=""/>
              <p:cNvGrpSpPr/>
              <p:nvPr/>
            </p:nvGrpSpPr>
            <p:grpSpPr>
              <a:xfrm>
                <a:off x="2258280" y="2689920"/>
                <a:ext cx="5250240" cy="401040"/>
                <a:chOff x="2258280" y="2689920"/>
                <a:chExt cx="5250240" cy="401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58280" y="2689920"/>
                  <a:ext cx="5245560" cy="401040"/>
                </a:xfrm>
                <a:prstGeom prst="roundRect">
                  <a:avLst>
                    <a:gd name="adj" fmla="val 12736"/>
                  </a:avLst>
                </a:prstGeom>
                <a:gradFill rotWithShape="0">
                  <a:gsLst>
                    <a:gs pos="0">
                      <a:srgbClr val="d36818"/>
                    </a:gs>
                    <a:gs pos="100000">
                      <a:srgbClr val="f77a1d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53753" dir="2700000" blurRad="0" rotWithShape="0">
                    <a:srgbClr val="93481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264040" y="2690640"/>
                  <a:ext cx="5244480" cy="160200"/>
                </a:xfrm>
                <a:prstGeom prst="roundRect">
                  <a:avLst>
                    <a:gd name="adj" fmla="val 30769"/>
                  </a:avLst>
                </a:prstGeom>
                <a:gradFill rotWithShape="0">
                  <a:gsLst>
                    <a:gs pos="0">
                      <a:srgbClr val="f77a1d"/>
                    </a:gs>
                    <a:gs pos="100000">
                      <a:srgbClr val="f790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2347200" y="2649240"/>
                <a:ext cx="51148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.Text  Analys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616040" y="4780080"/>
              <a:ext cx="6280200" cy="896760"/>
              <a:chOff x="1616040" y="4780080"/>
              <a:chExt cx="6280200" cy="896760"/>
            </a:xfrm>
          </p:grpSpPr>
          <p:sp>
            <p:nvSpPr>
              <p:cNvPr id="131" name=""/>
              <p:cNvSpPr/>
              <p:nvPr/>
            </p:nvSpPr>
            <p:spPr>
              <a:xfrm>
                <a:off x="1616040" y="4780080"/>
                <a:ext cx="6280200" cy="612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9c2c7"/>
                  </a:gs>
                  <a:gs pos="50000">
                    <a:srgbClr val="d3d9dc"/>
                  </a:gs>
                  <a:gs pos="100000">
                    <a:srgbClr val="b9c2c7"/>
                  </a:gs>
                </a:gsLst>
                <a:lin ang="5400000"/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7737120" y="4891680"/>
                <a:ext cx="69120" cy="374400"/>
                <a:chOff x="7737120" y="4891680"/>
                <a:chExt cx="69120" cy="374400"/>
              </a:xfrm>
            </p:grpSpPr>
            <p:sp>
              <p:nvSpPr>
                <p:cNvPr id="133" name=""/>
                <p:cNvSpPr/>
                <p:nvPr/>
              </p:nvSpPr>
              <p:spPr>
                <a:xfrm flipH="1" flipV="1">
                  <a:off x="7780320" y="523656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7736760" y="523656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7780320" y="518328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7780320" y="48913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7738560" y="48913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 flipV="1">
                  <a:off x="7780320" y="494316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859400" y="4989960"/>
                <a:ext cx="210600" cy="216000"/>
                <a:chOff x="1859400" y="4989960"/>
                <a:chExt cx="210600" cy="2160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859400" y="4989960"/>
                  <a:ext cx="205920" cy="213480"/>
                </a:xfrm>
                <a:prstGeom prst="ellipse">
                  <a:avLst/>
                </a:prstGeom>
                <a:solidFill>
                  <a:srgbClr val="eaeaea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1865520" y="4996440"/>
                  <a:ext cx="201600" cy="209520"/>
                  <a:chOff x="1865520" y="4996440"/>
                  <a:chExt cx="201600" cy="209520"/>
                </a:xfrm>
              </p:grpSpPr>
              <p:pic>
                <p:nvPicPr>
                  <p:cNvPr id="142" name="" descr=""/>
                  <p:cNvPicPr/>
                  <p:nvPr/>
                </p:nvPicPr>
                <p:blipFill>
                  <a:blip r:embed="rId6">
                    <a:lum bright="-24000"/>
                  </a:blip>
                  <a:stretch/>
                </p:blipFill>
                <p:spPr>
                  <a:xfrm>
                    <a:off x="1865520" y="4996440"/>
                    <a:ext cx="191520" cy="19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3" name=""/>
                  <p:cNvSpPr/>
                  <p:nvPr/>
                </p:nvSpPr>
                <p:spPr>
                  <a:xfrm>
                    <a:off x="1865520" y="4996440"/>
                    <a:ext cx="193680" cy="19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77a1d"/>
                      </a:gs>
                      <a:gs pos="100000">
                        <a:srgbClr val="71380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44" name="" descr=""/>
                  <p:cNvPicPr/>
                  <p:nvPr/>
                </p:nvPicPr>
                <p:blipFill>
                  <a:blip r:embed="rId7"/>
                  <a:srcRect l="0" t="14289" r="0" b="0"/>
                  <a:stretch/>
                </p:blipFill>
                <p:spPr>
                  <a:xfrm>
                    <a:off x="1866960" y="5005080"/>
                    <a:ext cx="142560" cy="1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1925640" y="5077080"/>
                    <a:ext cx="141480" cy="128880"/>
                    <a:chOff x="1925640" y="5077080"/>
                    <a:chExt cx="141480" cy="128880"/>
                  </a:xfrm>
                </p:grpSpPr>
                <p:grpSp>
                  <p:nvGrpSpPr>
                    <p:cNvPr id="146" name=""/>
                    <p:cNvGrpSpPr/>
                    <p:nvPr/>
                  </p:nvGrpSpPr>
                  <p:grpSpPr>
                    <a:xfrm>
                      <a:off x="1957680" y="5077080"/>
                      <a:ext cx="109440" cy="127440"/>
                      <a:chOff x="1957680" y="5077080"/>
                      <a:chExt cx="109440" cy="127440"/>
                    </a:xfrm>
                  </p:grpSpPr>
                  <p:sp>
                    <p:nvSpPr>
                      <p:cNvPr id="147" name=""/>
                      <p:cNvSpPr/>
                      <p:nvPr/>
                    </p:nvSpPr>
                    <p:spPr>
                      <a:xfrm flipH="1" flipV="1" rot="1528800">
                        <a:off x="2018520" y="507708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 flipH="1" flipV="1" rot="2344200">
                        <a:off x="2010600" y="50925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 flipH="1" flipV="1" rot="2640000">
                        <a:off x="2003760" y="5100120"/>
                        <a:ext cx="2556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 flipH="1" flipV="1" rot="3172200">
                        <a:off x="1994760" y="510912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1925640" y="5112360"/>
                      <a:ext cx="137520" cy="93600"/>
                      <a:chOff x="1925640" y="5112360"/>
                      <a:chExt cx="137520" cy="9360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 flipH="1" flipV="1" rot="2881800">
                        <a:off x="2001960" y="51033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 flipH="1" flipV="1" rot="3697200">
                        <a:off x="1987920" y="5114160"/>
                        <a:ext cx="2556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 flipH="1" flipV="1" rot="3993000">
                        <a:off x="1978920" y="511992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 flipH="1" flipV="1" rot="4525200">
                        <a:off x="1966680" y="51249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1947240" y="5083920"/>
                  <a:ext cx="122760" cy="112320"/>
                  <a:chOff x="1947240" y="5083920"/>
                  <a:chExt cx="122760" cy="112320"/>
                </a:xfrm>
              </p:grpSpPr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975680" y="5083920"/>
                    <a:ext cx="94320" cy="111600"/>
                    <a:chOff x="1975680" y="5083920"/>
                    <a:chExt cx="94320" cy="11160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 flipH="1" flipV="1" rot="1528800">
                      <a:off x="2028240" y="508392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flipH="1" flipV="1" rot="2344200">
                      <a:off x="2021040" y="509688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H="1" flipV="1" rot="2640000">
                      <a:off x="2015640" y="510372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flipH="1" flipV="1" rot="3172200">
                      <a:off x="2008800" y="511200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1947240" y="5114880"/>
                    <a:ext cx="119880" cy="81360"/>
                    <a:chOff x="1947240" y="5114880"/>
                    <a:chExt cx="119880" cy="8136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flipH="1" flipV="1" rot="2881800">
                      <a:off x="2014200" y="510660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flipH="1" flipV="1" rot="3697200">
                      <a:off x="2001600" y="511596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 flipH="1" flipV="1" rot="3993000">
                      <a:off x="1993680" y="512028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 flipH="1" flipV="1" rot="4525200">
                      <a:off x="1984320" y="512460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2230560" y="4892040"/>
                <a:ext cx="5250240" cy="401040"/>
                <a:chOff x="2230560" y="4892040"/>
                <a:chExt cx="5250240" cy="401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230560" y="4892040"/>
                  <a:ext cx="5245560" cy="401040"/>
                </a:xfrm>
                <a:prstGeom prst="roundRect">
                  <a:avLst>
                    <a:gd name="adj" fmla="val 12736"/>
                  </a:avLst>
                </a:prstGeom>
                <a:gradFill rotWithShape="0">
                  <a:gsLst>
                    <a:gs pos="0">
                      <a:srgbClr val="d36818"/>
                    </a:gs>
                    <a:gs pos="100000">
                      <a:srgbClr val="f77a1d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53753" dir="2700000" blurRad="0" rotWithShape="0">
                    <a:srgbClr val="93481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236320" y="4892760"/>
                  <a:ext cx="5244480" cy="160200"/>
                </a:xfrm>
                <a:prstGeom prst="roundRect">
                  <a:avLst>
                    <a:gd name="adj" fmla="val 30769"/>
                  </a:avLst>
                </a:prstGeom>
                <a:gradFill rotWithShape="0">
                  <a:gsLst>
                    <a:gs pos="0">
                      <a:srgbClr val="f77a1d"/>
                    </a:gs>
                    <a:gs pos="100000">
                      <a:srgbClr val="f790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2319480" y="4851360"/>
                <a:ext cx="5114880" cy="825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4. Assignmen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600200" y="3667680"/>
              <a:ext cx="6280200" cy="612720"/>
              <a:chOff x="1600200" y="3667680"/>
              <a:chExt cx="6280200" cy="612720"/>
            </a:xfrm>
          </p:grpSpPr>
          <p:sp>
            <p:nvSpPr>
              <p:cNvPr id="172" name=""/>
              <p:cNvSpPr/>
              <p:nvPr/>
            </p:nvSpPr>
            <p:spPr>
              <a:xfrm>
                <a:off x="1600200" y="3667680"/>
                <a:ext cx="6280200" cy="612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9c2c7"/>
                  </a:gs>
                  <a:gs pos="50000">
                    <a:srgbClr val="d3d9dc"/>
                  </a:gs>
                  <a:gs pos="100000">
                    <a:srgbClr val="b9c2c7"/>
                  </a:gs>
                </a:gsLst>
                <a:lin ang="5400000"/>
              </a:gradFill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7721280" y="3779280"/>
                <a:ext cx="69120" cy="374760"/>
                <a:chOff x="7721280" y="3779280"/>
                <a:chExt cx="69120" cy="374760"/>
              </a:xfrm>
            </p:grpSpPr>
            <p:sp>
              <p:nvSpPr>
                <p:cNvPr id="174" name=""/>
                <p:cNvSpPr/>
                <p:nvPr/>
              </p:nvSpPr>
              <p:spPr>
                <a:xfrm flipH="1" flipV="1">
                  <a:off x="7764480" y="41245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flipV="1">
                  <a:off x="7720920" y="41245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7764480" y="407124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flipV="1">
                  <a:off x="7764480" y="37789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7722720" y="377892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flipV="1">
                  <a:off x="7764480" y="3830760"/>
                  <a:ext cx="25560" cy="29160"/>
                </a:xfrm>
                <a:prstGeom prst="ellipse">
                  <a:avLst/>
                </a:prstGeom>
                <a:solidFill>
                  <a:srgbClr val="f8f8f8"/>
                </a:solidFill>
                <a:ln w="0">
                  <a:noFill/>
                </a:ln>
                <a:effectLst>
                  <a:outerShdw dist="153753" dir="2700000" blurRad="0" rotWithShape="0">
                    <a:srgbClr val="1c1c1c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843560" y="3877560"/>
                <a:ext cx="210600" cy="216000"/>
                <a:chOff x="1843560" y="3877560"/>
                <a:chExt cx="210600" cy="216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843560" y="3877560"/>
                  <a:ext cx="205920" cy="213480"/>
                </a:xfrm>
                <a:prstGeom prst="ellipse">
                  <a:avLst/>
                </a:prstGeom>
                <a:solidFill>
                  <a:srgbClr val="eaeaea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1849680" y="3884040"/>
                  <a:ext cx="201600" cy="209520"/>
                  <a:chOff x="1849680" y="3884040"/>
                  <a:chExt cx="201600" cy="209520"/>
                </a:xfrm>
              </p:grpSpPr>
              <p:pic>
                <p:nvPicPr>
                  <p:cNvPr id="183" name="" descr=""/>
                  <p:cNvPicPr/>
                  <p:nvPr/>
                </p:nvPicPr>
                <p:blipFill>
                  <a:blip r:embed="rId8">
                    <a:lum bright="-24000"/>
                  </a:blip>
                  <a:stretch/>
                </p:blipFill>
                <p:spPr>
                  <a:xfrm>
                    <a:off x="1849680" y="3884040"/>
                    <a:ext cx="191520" cy="19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4" name=""/>
                  <p:cNvSpPr/>
                  <p:nvPr/>
                </p:nvSpPr>
                <p:spPr>
                  <a:xfrm>
                    <a:off x="1849680" y="3884040"/>
                    <a:ext cx="193680" cy="19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f038f"/>
                      </a:gs>
                      <a:gs pos="100000">
                        <a:srgbClr val="410141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rcRect l="0" t="14289" r="0" b="0"/>
                  <a:stretch/>
                </p:blipFill>
                <p:spPr>
                  <a:xfrm>
                    <a:off x="1851120" y="3892680"/>
                    <a:ext cx="142560" cy="1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1909800" y="3964680"/>
                    <a:ext cx="141480" cy="128880"/>
                    <a:chOff x="1909800" y="3964680"/>
                    <a:chExt cx="141480" cy="128880"/>
                  </a:xfrm>
                </p:grpSpPr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1941840" y="3964680"/>
                      <a:ext cx="109440" cy="127440"/>
                      <a:chOff x="1941840" y="3964680"/>
                      <a:chExt cx="109440" cy="127440"/>
                    </a:xfrm>
                  </p:grpSpPr>
                  <p:sp>
                    <p:nvSpPr>
                      <p:cNvPr id="188" name=""/>
                      <p:cNvSpPr/>
                      <p:nvPr/>
                    </p:nvSpPr>
                    <p:spPr>
                      <a:xfrm flipH="1" flipV="1" rot="1528800">
                        <a:off x="2002680" y="396468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 flipH="1" flipV="1" rot="2344200">
                        <a:off x="1994760" y="39801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"/>
                      <p:cNvSpPr/>
                      <p:nvPr/>
                    </p:nvSpPr>
                    <p:spPr>
                      <a:xfrm flipH="1" flipV="1" rot="2640000">
                        <a:off x="1987920" y="3987720"/>
                        <a:ext cx="2556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"/>
                      <p:cNvSpPr/>
                      <p:nvPr/>
                    </p:nvSpPr>
                    <p:spPr>
                      <a:xfrm flipH="1" flipV="1" rot="3172200">
                        <a:off x="1978920" y="399672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" name=""/>
                    <p:cNvGrpSpPr/>
                    <p:nvPr/>
                  </p:nvGrpSpPr>
                  <p:grpSpPr>
                    <a:xfrm>
                      <a:off x="1909800" y="3999960"/>
                      <a:ext cx="137520" cy="93600"/>
                      <a:chOff x="1909800" y="3999960"/>
                      <a:chExt cx="137520" cy="93600"/>
                    </a:xfrm>
                  </p:grpSpPr>
                  <p:sp>
                    <p:nvSpPr>
                      <p:cNvPr id="193" name=""/>
                      <p:cNvSpPr/>
                      <p:nvPr/>
                    </p:nvSpPr>
                    <p:spPr>
                      <a:xfrm flipH="1" flipV="1" rot="2881800">
                        <a:off x="1986120" y="39909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 flipH="1" flipV="1" rot="3697200">
                        <a:off x="1972080" y="4001760"/>
                        <a:ext cx="25560" cy="10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 flipH="1" flipV="1" rot="3993000">
                        <a:off x="1963080" y="400752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 flipH="1" flipV="1" rot="4525200">
                        <a:off x="1950840" y="4012560"/>
                        <a:ext cx="2556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6" y="1929"/>
                              <a:pt x="10751" y="5080"/>
                              <a:pt x="10751" y="10800"/>
                            </a:cubicBezTo>
                            <a:cubicBezTo>
                              <a:pt x="10751" y="16520"/>
                              <a:pt x="16176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4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931400" y="3971520"/>
                  <a:ext cx="122760" cy="112320"/>
                  <a:chOff x="1931400" y="3971520"/>
                  <a:chExt cx="122760" cy="11232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1959840" y="3971520"/>
                    <a:ext cx="94320" cy="111600"/>
                    <a:chOff x="1959840" y="3971520"/>
                    <a:chExt cx="94320" cy="11160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flipV="1" rot="1528800">
                      <a:off x="2012400" y="397152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flipV="1" rot="2344200">
                      <a:off x="2005200" y="398448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flipH="1" flipV="1" rot="2640000">
                      <a:off x="1999800" y="399132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flipH="1" flipV="1" rot="3172200">
                      <a:off x="1992960" y="3999600"/>
                      <a:ext cx="2160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1931400" y="4002480"/>
                    <a:ext cx="119880" cy="81360"/>
                    <a:chOff x="1931400" y="4002480"/>
                    <a:chExt cx="119880" cy="8136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 flipH="1" flipV="1" rot="2881800">
                      <a:off x="1998360" y="399420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 flipH="1" flipV="1" rot="3697200">
                      <a:off x="1985760" y="400356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flipH="1" flipV="1" rot="3993000">
                      <a:off x="1977840" y="400788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flipH="1" flipV="1" rot="4525200">
                      <a:off x="1968480" y="4012200"/>
                      <a:ext cx="2160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440" bIns="46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" name=""/>
              <p:cNvGrpSpPr/>
              <p:nvPr/>
            </p:nvGrpSpPr>
            <p:grpSpPr>
              <a:xfrm>
                <a:off x="2214720" y="3779640"/>
                <a:ext cx="5250240" cy="401040"/>
                <a:chOff x="2214720" y="3779640"/>
                <a:chExt cx="5250240" cy="4010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2214720" y="3779640"/>
                  <a:ext cx="5245560" cy="401040"/>
                </a:xfrm>
                <a:prstGeom prst="roundRect">
                  <a:avLst>
                    <a:gd name="adj" fmla="val 12736"/>
                  </a:avLst>
                </a:prstGeom>
                <a:gradFill rotWithShape="0">
                  <a:gsLst>
                    <a:gs pos="0">
                      <a:srgbClr val="7a027a"/>
                    </a:gs>
                    <a:gs pos="100000">
                      <a:srgbClr val="8f038f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53753" dir="2700000" blurRad="0" rotWithShape="0">
                    <a:srgbClr val="550155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20480" y="3780360"/>
                  <a:ext cx="5244480" cy="160200"/>
                </a:xfrm>
                <a:prstGeom prst="roundRect">
                  <a:avLst>
                    <a:gd name="adj" fmla="val 30769"/>
                  </a:avLst>
                </a:prstGeom>
                <a:gradFill rotWithShape="0">
                  <a:gsLst>
                    <a:gs pos="0">
                      <a:srgbClr val="8f038f"/>
                    </a:gs>
                    <a:gs pos="100000">
                      <a:srgbClr val="a22fa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2303640" y="3738960"/>
                <a:ext cx="51148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3. Writing Pattern and Pract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236232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791320" y="34765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4765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67000" y="3676680"/>
            <a:ext cx="2038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nuffl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re thr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51320" y="33796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c7cb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03000" y="33796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ddd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76720" y="1752480"/>
            <a:ext cx="2998440" cy="1601640"/>
            <a:chOff x="3276720" y="1752480"/>
            <a:chExt cx="2998440" cy="1601640"/>
          </a:xfrm>
        </p:grpSpPr>
        <p:grpSp>
          <p:nvGrpSpPr>
            <p:cNvPr id="220" name=""/>
            <p:cNvGrpSpPr/>
            <p:nvPr/>
          </p:nvGrpSpPr>
          <p:grpSpPr>
            <a:xfrm>
              <a:off x="3276720" y="1895400"/>
              <a:ext cx="2998440" cy="1458720"/>
              <a:chOff x="3276720" y="1895400"/>
              <a:chExt cx="2998440" cy="1458720"/>
            </a:xfrm>
          </p:grpSpPr>
          <p:sp>
            <p:nvSpPr>
              <p:cNvPr id="221" name=""/>
              <p:cNvSpPr/>
              <p:nvPr/>
            </p:nvSpPr>
            <p:spPr>
              <a:xfrm>
                <a:off x="3309480" y="19418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004a4a"/>
                  </a:gs>
                  <a:gs pos="100000">
                    <a:srgbClr val="0099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276720" y="18954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8dd0d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418200" y="17524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3120" y="17604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e6f3f4"/>
                </a:gs>
                <a:gs pos="100000">
                  <a:srgbClr val="bbe0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80120" y="17733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48235"/>
                  </a:srgbClr>
                </a:gs>
                <a:gs pos="100000">
                  <a:srgbClr val="93b0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11880" y="18003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207320" y="210816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705120"/>
            <a:ext cx="2038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ctor’s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83808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Warm-up Activit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-83808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Warm-up Activit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ackgrou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43000" y="1447920"/>
            <a:ext cx="7390440" cy="4647600"/>
            <a:chOff x="1143000" y="1447920"/>
            <a:chExt cx="7390440" cy="4647600"/>
          </a:xfrm>
        </p:grpSpPr>
        <p:sp>
          <p:nvSpPr>
            <p:cNvPr id="234" name=""/>
            <p:cNvSpPr/>
            <p:nvPr/>
          </p:nvSpPr>
          <p:spPr>
            <a:xfrm>
              <a:off x="1143000" y="1802160"/>
              <a:ext cx="7368480" cy="32911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6760" y="1811880"/>
              <a:ext cx="7146360" cy="32284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15800" y="4188240"/>
              <a:ext cx="7049520" cy="81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15800" y="1837080"/>
              <a:ext cx="7049520" cy="815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64960" y="5093640"/>
              <a:ext cx="7368480" cy="10018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15800" y="5121000"/>
              <a:ext cx="7049520" cy="890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678120" y="1447920"/>
              <a:ext cx="2188800" cy="740160"/>
              <a:chOff x="3678120" y="1447920"/>
              <a:chExt cx="2188800" cy="740160"/>
            </a:xfrm>
          </p:grpSpPr>
          <p:sp>
            <p:nvSpPr>
              <p:cNvPr id="241" name=""/>
              <p:cNvSpPr/>
              <p:nvPr/>
            </p:nvSpPr>
            <p:spPr>
              <a:xfrm>
                <a:off x="3678120" y="1447920"/>
                <a:ext cx="2188800" cy="7401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00800" y="1453680"/>
                <a:ext cx="2116800" cy="7167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27080" y="1457640"/>
                <a:ext cx="2067840" cy="699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1464480"/>
                <a:ext cx="1965960" cy="652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64600" y="1482120"/>
                <a:ext cx="1746720" cy="530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119480" y="1502640"/>
              <a:ext cx="126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tr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2920" y="2325600"/>
              <a:ext cx="70066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523880" y="2362320"/>
            <a:ext cx="6782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rn people labeled the depression, the tension, the negative feeling and the state of worry due to stress caused by various problems of living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cold of heart”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-83808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Warm-up Activit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-Class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33520" y="2895480"/>
            <a:ext cx="5410080" cy="1745640"/>
            <a:chOff x="533520" y="2895480"/>
            <a:chExt cx="5410080" cy="1745640"/>
          </a:xfrm>
        </p:grpSpPr>
        <p:sp>
          <p:nvSpPr>
            <p:cNvPr id="253" name=""/>
            <p:cNvSpPr/>
            <p:nvPr/>
          </p:nvSpPr>
          <p:spPr>
            <a:xfrm>
              <a:off x="533520" y="2895480"/>
              <a:ext cx="5410080" cy="1226160"/>
            </a:xfrm>
            <a:prstGeom prst="roundRect">
              <a:avLst>
                <a:gd name="adj" fmla="val 10889"/>
              </a:avLst>
            </a:prstGeom>
            <a:solidFill>
              <a:srgbClr val="cc99ff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540000" y="3008160"/>
              <a:ext cx="1249200" cy="1002960"/>
              <a:chOff x="540000" y="3008160"/>
              <a:chExt cx="1249200" cy="1002960"/>
            </a:xfrm>
          </p:grpSpPr>
          <p:sp>
            <p:nvSpPr>
              <p:cNvPr id="255" name=""/>
              <p:cNvSpPr/>
              <p:nvPr/>
            </p:nvSpPr>
            <p:spPr>
              <a:xfrm>
                <a:off x="651240" y="3008160"/>
                <a:ext cx="1042920" cy="1002960"/>
              </a:xfrm>
              <a:prstGeom prst="roundRect">
                <a:avLst>
                  <a:gd name="adj" fmla="val 11921"/>
                </a:avLst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6400" y="3072600"/>
                <a:ext cx="519840" cy="5014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edee"/>
                  </a:gs>
                  <a:gs pos="50000">
                    <a:srgbClr val="bbe0e3">
                      <a:alpha val="0"/>
                    </a:srgbClr>
                  </a:gs>
                  <a:gs pos="100000">
                    <a:srgbClr val="d9ed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0000" y="3281040"/>
                <a:ext cx="12492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opic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837080" y="3084840"/>
              <a:ext cx="39762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hat makes you feel stress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3520" y="4724280"/>
            <a:ext cx="5486400" cy="1236600"/>
            <a:chOff x="533520" y="4724280"/>
            <a:chExt cx="5486400" cy="1236600"/>
          </a:xfrm>
        </p:grpSpPr>
        <p:sp>
          <p:nvSpPr>
            <p:cNvPr id="260" name=""/>
            <p:cNvSpPr/>
            <p:nvPr/>
          </p:nvSpPr>
          <p:spPr>
            <a:xfrm>
              <a:off x="533520" y="4724280"/>
              <a:ext cx="5486400" cy="1225800"/>
            </a:xfrm>
            <a:prstGeom prst="roundRect">
              <a:avLst>
                <a:gd name="adj" fmla="val 10889"/>
              </a:avLst>
            </a:prstGeom>
            <a:solidFill>
              <a:srgbClr val="cc99ff"/>
            </a:soli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49000" y="4836960"/>
              <a:ext cx="1249200" cy="1002600"/>
              <a:chOff x="549000" y="4836960"/>
              <a:chExt cx="1249200" cy="1002600"/>
            </a:xfrm>
          </p:grpSpPr>
          <p:sp>
            <p:nvSpPr>
              <p:cNvPr id="262" name=""/>
              <p:cNvSpPr/>
              <p:nvPr/>
            </p:nvSpPr>
            <p:spPr>
              <a:xfrm>
                <a:off x="653040" y="4836960"/>
                <a:ext cx="1057680" cy="1002600"/>
              </a:xfrm>
              <a:prstGeom prst="roundRect">
                <a:avLst>
                  <a:gd name="adj" fmla="val 11921"/>
                </a:avLst>
              </a:prstGeom>
              <a:solidFill>
                <a:srgbClr val="0000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920" y="4901400"/>
                <a:ext cx="527400" cy="5011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>
                      <a:alpha val="0"/>
                    </a:srgbClr>
                  </a:gs>
                  <a:gs pos="100000">
                    <a:srgbClr val="9b9b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9000" y="5110920"/>
                <a:ext cx="12492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opic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854000" y="4892040"/>
              <a:ext cx="4033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ow to relie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tress?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2557440" cy="327636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533520" y="1752480"/>
            <a:ext cx="7161480" cy="838080"/>
            <a:chOff x="533520" y="1752480"/>
            <a:chExt cx="7161480" cy="838080"/>
          </a:xfrm>
        </p:grpSpPr>
        <p:sp>
          <p:nvSpPr>
            <p:cNvPr id="268" name=""/>
            <p:cNvSpPr/>
            <p:nvPr/>
          </p:nvSpPr>
          <p:spPr>
            <a:xfrm>
              <a:off x="533520" y="1752480"/>
              <a:ext cx="716148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5120" y="1802880"/>
              <a:ext cx="6909840" cy="3402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33520" y="175248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Discuss the topics as  follow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r partner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10"/>
          <p:cNvSpPr/>
          <p:nvPr/>
        </p:nvSpPr>
        <p:spPr>
          <a:xfrm>
            <a:off x="2133720" y="1295280"/>
            <a:ext cx="4419360" cy="2514600"/>
          </a:xfrm>
          <a:prstGeom prst="roundRect">
            <a:avLst>
              <a:gd name="adj" fmla="val 12727"/>
            </a:avLst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152280" y="1371600"/>
            <a:ext cx="2438280" cy="2354040"/>
            <a:chOff x="152280" y="1371600"/>
            <a:chExt cx="2438280" cy="2354040"/>
          </a:xfrm>
        </p:grpSpPr>
        <p:sp>
          <p:nvSpPr>
            <p:cNvPr id="274" name="Oval 13"/>
            <p:cNvSpPr/>
            <p:nvPr/>
          </p:nvSpPr>
          <p:spPr>
            <a:xfrm>
              <a:off x="152280" y="1371600"/>
              <a:ext cx="2438280" cy="23540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4"/>
            <p:cNvSpPr/>
            <p:nvPr/>
          </p:nvSpPr>
          <p:spPr>
            <a:xfrm>
              <a:off x="252360" y="1468440"/>
              <a:ext cx="2234880" cy="2160000"/>
            </a:xfrm>
            <a:prstGeom prst="ellipse">
              <a:avLst/>
            </a:prstGeom>
            <a:noFill/>
            <a:ln w="38160">
              <a:solidFill>
                <a:srgbClr val="333399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5"/>
            <p:cNvSpPr/>
            <p:nvPr/>
          </p:nvSpPr>
          <p:spPr>
            <a:xfrm>
              <a:off x="352080" y="1571040"/>
              <a:ext cx="2034720" cy="1966320"/>
            </a:xfrm>
            <a:prstGeom prst="ellipse">
              <a:avLst/>
            </a:prstGeom>
            <a:noFill/>
            <a:ln w="38160">
              <a:solidFill>
                <a:srgbClr val="3333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AutoShape 10"/>
          <p:cNvSpPr/>
          <p:nvPr/>
        </p:nvSpPr>
        <p:spPr>
          <a:xfrm>
            <a:off x="2209680" y="4038480"/>
            <a:ext cx="4419720" cy="2514600"/>
          </a:xfrm>
          <a:prstGeom prst="roundRect">
            <a:avLst>
              <a:gd name="adj" fmla="val 1272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6324480" y="4038480"/>
            <a:ext cx="2438280" cy="2354040"/>
            <a:chOff x="6324480" y="4038480"/>
            <a:chExt cx="2438280" cy="2354040"/>
          </a:xfrm>
        </p:grpSpPr>
        <p:sp>
          <p:nvSpPr>
            <p:cNvPr id="279" name="Oval 13"/>
            <p:cNvSpPr/>
            <p:nvPr/>
          </p:nvSpPr>
          <p:spPr>
            <a:xfrm>
              <a:off x="6324480" y="4038480"/>
              <a:ext cx="2438280" cy="23540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4"/>
            <p:cNvSpPr/>
            <p:nvPr/>
          </p:nvSpPr>
          <p:spPr>
            <a:xfrm>
              <a:off x="6424560" y="4135320"/>
              <a:ext cx="2234880" cy="2160000"/>
            </a:xfrm>
            <a:prstGeom prst="ellipse">
              <a:avLst/>
            </a:prstGeom>
            <a:noFill/>
            <a:ln w="38160">
              <a:solidFill>
                <a:srgbClr val="333399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5"/>
            <p:cNvSpPr/>
            <p:nvPr/>
          </p:nvSpPr>
          <p:spPr>
            <a:xfrm>
              <a:off x="6524280" y="4237920"/>
              <a:ext cx="2034720" cy="1966320"/>
            </a:xfrm>
            <a:prstGeom prst="ellipse">
              <a:avLst/>
            </a:prstGeom>
            <a:noFill/>
            <a:ln w="38160">
              <a:solidFill>
                <a:srgbClr val="33339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55840" y="2057400"/>
            <a:ext cx="162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 Black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-83808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Warm-up Activit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-Class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35520" y="4724280"/>
            <a:ext cx="191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 Black"/>
              </a:rPr>
              <a:t>Eff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 Black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1847880" cy="2362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6629400" y="1371600"/>
            <a:ext cx="2057400" cy="2373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1219320"/>
            <a:ext cx="443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nal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lationship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ther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avy work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erc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4267080"/>
            <a:ext cx="449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sitive attitu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l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nough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ercises and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974880" y="2028960"/>
            <a:ext cx="1912320" cy="3605040"/>
            <a:chOff x="974880" y="2028960"/>
            <a:chExt cx="1912320" cy="3605040"/>
          </a:xfrm>
        </p:grpSpPr>
        <p:sp>
          <p:nvSpPr>
            <p:cNvPr id="291" name=""/>
            <p:cNvSpPr/>
            <p:nvPr/>
          </p:nvSpPr>
          <p:spPr>
            <a:xfrm flipV="1">
              <a:off x="1267920" y="3757680"/>
              <a:ext cx="160848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1692000" y="2825640"/>
              <a:ext cx="477720" cy="19123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57480" y="2028960"/>
              <a:ext cx="160884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560760" y="3182760"/>
            <a:ext cx="545796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65e00">
                  <a:alpha val="0"/>
                </a:srgbClr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40240" y="362916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98920" y="4705200"/>
            <a:ext cx="5422680" cy="1314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71746">
                  <a:alpha val="0"/>
                </a:srgbClr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13240" y="5170320"/>
            <a:ext cx="376200" cy="347760"/>
          </a:xfrm>
          <a:prstGeom prst="rightArrow">
            <a:avLst>
              <a:gd name="adj1" fmla="val 50000"/>
              <a:gd name="adj2" fmla="val 45074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0760" y="1687680"/>
            <a:ext cx="5457960" cy="1304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4646">
                  <a:alpha val="0"/>
                </a:srgbClr>
              </a:gs>
              <a:gs pos="100000">
                <a:srgbClr val="009999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21160" y="213372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68640" y="1671480"/>
            <a:ext cx="1538280" cy="1298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a6a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1640" y="173664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2cccc"/>
              </a:gs>
              <a:gs pos="50000">
                <a:srgbClr val="009999">
                  <a:alpha val="0"/>
                </a:srgbClr>
              </a:gs>
              <a:gs pos="100000">
                <a:srgbClr val="82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0880" y="317340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9cc00"/>
              </a:gs>
              <a:gs pos="100000">
                <a:srgbClr val="6a8d00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4880" y="323856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ce582"/>
              </a:gs>
              <a:gs pos="50000">
                <a:srgbClr val="99cc00">
                  <a:alpha val="0"/>
                </a:srgbClr>
              </a:gs>
              <a:gs pos="100000">
                <a:srgbClr val="cce5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469584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3399"/>
              </a:gs>
              <a:gs pos="100000">
                <a:srgbClr val="23236a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25800" y="475128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9b9bcc"/>
              </a:gs>
              <a:gs pos="50000">
                <a:srgbClr val="333399">
                  <a:alpha val="0"/>
                </a:srgbClr>
              </a:gs>
              <a:gs pos="100000">
                <a:srgbClr val="9b9b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59200" y="2116080"/>
            <a:ext cx="16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59200" y="3556080"/>
            <a:ext cx="16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24280" y="5068800"/>
            <a:ext cx="16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974880" y="2028960"/>
            <a:ext cx="1912320" cy="3605040"/>
            <a:chOff x="974880" y="2028960"/>
            <a:chExt cx="1912320" cy="3605040"/>
          </a:xfrm>
        </p:grpSpPr>
        <p:sp>
          <p:nvSpPr>
            <p:cNvPr id="310" name=""/>
            <p:cNvSpPr/>
            <p:nvPr/>
          </p:nvSpPr>
          <p:spPr>
            <a:xfrm flipV="1">
              <a:off x="1267920" y="3757680"/>
              <a:ext cx="160848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1692000" y="2825640"/>
              <a:ext cx="477720" cy="19123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57480" y="2028960"/>
              <a:ext cx="160884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038480" y="3200400"/>
            <a:ext cx="545796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295723">
                  <a:alpha val="0"/>
                </a:srgbClr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40240" y="362916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4724280"/>
            <a:ext cx="5423040" cy="1314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10141">
                  <a:alpha val="0"/>
                </a:srgbClr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13240" y="5170320"/>
            <a:ext cx="376200" cy="347760"/>
          </a:xfrm>
          <a:prstGeom prst="rightArrow">
            <a:avLst>
              <a:gd name="adj1" fmla="val 50000"/>
              <a:gd name="adj2" fmla="val 45074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67080" y="1676520"/>
            <a:ext cx="5457960" cy="1304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71380d">
                  <a:alpha val="0"/>
                </a:srgbClr>
              </a:gs>
              <a:gs pos="100000">
                <a:srgbClr val="f77a1d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21160" y="213372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68640" y="1671480"/>
            <a:ext cx="1538280" cy="1298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b541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1640" y="173664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abd90"/>
              </a:gs>
              <a:gs pos="50000">
                <a:srgbClr val="f77a1d">
                  <a:alpha val="0"/>
                </a:srgbClr>
              </a:gs>
              <a:gs pos="100000">
                <a:srgbClr val="fabd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90880" y="317340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bbe4e"/>
              </a:gs>
              <a:gs pos="100000">
                <a:srgbClr val="3f8436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4880" y="323856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edea8"/>
              </a:gs>
              <a:gs pos="50000">
                <a:srgbClr val="5bbe4e">
                  <a:alpha val="0"/>
                </a:srgbClr>
              </a:gs>
              <a:gs pos="100000">
                <a:srgbClr val="aede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71800" y="469584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25800" y="475128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783c7"/>
              </a:gs>
              <a:gs pos="50000">
                <a:srgbClr val="8f038f">
                  <a:alpha val="0"/>
                </a:srgbClr>
              </a:gs>
              <a:gs pos="100000">
                <a:srgbClr val="c783c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1905120"/>
            <a:ext cx="16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e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3352680"/>
            <a:ext cx="16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e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4876920"/>
            <a:ext cx="16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e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43000" y="2695680"/>
            <a:ext cx="1882800" cy="1879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-99072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Text Analysi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—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3040" y="3352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5960" y="233676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ara.1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0880" y="383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9120" y="38862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ara.7-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82960" y="533412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ara.12-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23000" y="1981080"/>
            <a:ext cx="40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brief introduction to st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nd how it threatens one’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3280" y="3505320"/>
            <a:ext cx="354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Major causes of the st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40360" y="5013360"/>
            <a:ext cx="333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asures to cope with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ress in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-91440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Tex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708280"/>
            <a:ext cx="7362720" cy="2671920"/>
          </a:xfrm>
          <a:custGeom>
            <a:avLst/>
            <a:gdLst/>
            <a:ahLst/>
            <a:rect l="l" t="t" r="r" b="b"/>
            <a:pathLst>
              <a:path w="4728" h="1686">
                <a:moveTo>
                  <a:pt x="1422" y="3"/>
                </a:moveTo>
                <a:cubicBezTo>
                  <a:pt x="1450" y="0"/>
                  <a:pt x="252" y="159"/>
                  <a:pt x="192" y="705"/>
                </a:cubicBezTo>
                <a:cubicBezTo>
                  <a:pt x="222" y="1041"/>
                  <a:pt x="828" y="1203"/>
                  <a:pt x="1096" y="1292"/>
                </a:cubicBezTo>
                <a:cubicBezTo>
                  <a:pt x="1364" y="1381"/>
                  <a:pt x="1955" y="1428"/>
                  <a:pt x="2388" y="1428"/>
                </a:cubicBezTo>
                <a:cubicBezTo>
                  <a:pt x="2821" y="1428"/>
                  <a:pt x="3307" y="1379"/>
                  <a:pt x="3672" y="1275"/>
                </a:cubicBezTo>
                <a:cubicBezTo>
                  <a:pt x="4037" y="1171"/>
                  <a:pt x="4506" y="987"/>
                  <a:pt x="4524" y="705"/>
                </a:cubicBezTo>
                <a:cubicBezTo>
                  <a:pt x="4518" y="207"/>
                  <a:pt x="3269" y="50"/>
                  <a:pt x="3294" y="27"/>
                </a:cubicBezTo>
                <a:cubicBezTo>
                  <a:pt x="3324" y="29"/>
                  <a:pt x="4674" y="201"/>
                  <a:pt x="4704" y="717"/>
                </a:cubicBezTo>
                <a:cubicBezTo>
                  <a:pt x="4728" y="1077"/>
                  <a:pt x="4236" y="1365"/>
                  <a:pt x="3798" y="1488"/>
                </a:cubicBezTo>
                <a:cubicBezTo>
                  <a:pt x="3360" y="1611"/>
                  <a:pt x="2883" y="1680"/>
                  <a:pt x="2412" y="1683"/>
                </a:cubicBezTo>
                <a:cubicBezTo>
                  <a:pt x="1941" y="1686"/>
                  <a:pt x="1374" y="1644"/>
                  <a:pt x="972" y="1506"/>
                </a:cubicBezTo>
                <a:cubicBezTo>
                  <a:pt x="570" y="1368"/>
                  <a:pt x="0" y="1173"/>
                  <a:pt x="24" y="723"/>
                </a:cubicBezTo>
                <a:cubicBezTo>
                  <a:pt x="42" y="117"/>
                  <a:pt x="1394" y="6"/>
                  <a:pt x="1422" y="3"/>
                </a:cubicBezTo>
                <a:close/>
              </a:path>
            </a:pathLst>
          </a:custGeom>
          <a:gradFill rotWithShape="0">
            <a:gsLst>
              <a:gs pos="0">
                <a:srgbClr val="a59a55"/>
              </a:gs>
              <a:gs pos="100000">
                <a:srgbClr val="ecea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595600" y="2416320"/>
            <a:ext cx="3537000" cy="745560"/>
            <a:chOff x="2595600" y="2416320"/>
            <a:chExt cx="3537000" cy="745560"/>
          </a:xfrm>
        </p:grpSpPr>
        <p:sp>
          <p:nvSpPr>
            <p:cNvPr id="343" name=""/>
            <p:cNvSpPr/>
            <p:nvPr/>
          </p:nvSpPr>
          <p:spPr>
            <a:xfrm>
              <a:off x="2595600" y="2431080"/>
              <a:ext cx="3534480" cy="730800"/>
            </a:xfrm>
            <a:prstGeom prst="ellipse">
              <a:avLst/>
            </a:prstGeom>
            <a:gradFill rotWithShape="0">
              <a:gsLst>
                <a:gs pos="0">
                  <a:srgbClr val="003854"/>
                </a:gs>
                <a:gs pos="50000">
                  <a:srgbClr val="006699"/>
                </a:gs>
                <a:gs pos="100000">
                  <a:srgbClr val="003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95600" y="2419920"/>
              <a:ext cx="3537000" cy="69084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a8ca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97760" y="2416320"/>
              <a:ext cx="3514320" cy="680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5098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048120" y="2496960"/>
            <a:ext cx="555480" cy="36216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52480" y="1676520"/>
            <a:ext cx="2354400" cy="99540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6c026c"/>
              </a:gs>
              <a:gs pos="100000">
                <a:srgbClr val="8f038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49720" y="1143000"/>
            <a:ext cx="555480" cy="171612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19560" y="2496960"/>
            <a:ext cx="555840" cy="362160"/>
          </a:xfrm>
          <a:prstGeom prst="cube">
            <a:avLst>
              <a:gd name="adj" fmla="val 48171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54360" y="1676520"/>
            <a:ext cx="2455920" cy="1000080"/>
          </a:xfrm>
          <a:prstGeom prst="cube">
            <a:avLst>
              <a:gd name="adj" fmla="val 24337"/>
            </a:avLst>
          </a:prstGeom>
          <a:gradFill rotWithShape="0">
            <a:gsLst>
              <a:gs pos="0">
                <a:srgbClr val="3f98c3"/>
              </a:gs>
              <a:gs pos="100000">
                <a:srgbClr val="4ab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352680" y="4114800"/>
            <a:ext cx="2466720" cy="2514240"/>
            <a:chOff x="3352680" y="4114800"/>
            <a:chExt cx="2466720" cy="251424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3352680" y="4114800"/>
              <a:ext cx="2466720" cy="23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352680" y="4114800"/>
              <a:ext cx="2449800" cy="239184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07200" y="4163400"/>
              <a:ext cx="1924560" cy="829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527640" y="5766480"/>
              <a:ext cx="2163240" cy="862560"/>
              <a:chOff x="3527640" y="5766480"/>
              <a:chExt cx="2163240" cy="8625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3904560" y="5766480"/>
                <a:ext cx="1786320" cy="809280"/>
                <a:chOff x="3904560" y="5766480"/>
                <a:chExt cx="1786320" cy="809280"/>
              </a:xfrm>
            </p:grpSpPr>
            <p:sp>
              <p:nvSpPr>
                <p:cNvPr id="357" name=""/>
                <p:cNvSpPr/>
                <p:nvPr/>
              </p:nvSpPr>
              <p:spPr>
                <a:xfrm flipH="1" flipV="1" rot="3964800">
                  <a:off x="4879800" y="5521320"/>
                  <a:ext cx="309240" cy="12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 rot="4780200">
                  <a:off x="4678200" y="5601240"/>
                  <a:ext cx="309240" cy="12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5076000">
                  <a:off x="4554720" y="5618160"/>
                  <a:ext cx="30924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5608200">
                  <a:off x="4406400" y="5634000"/>
                  <a:ext cx="30924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527640" y="5780520"/>
                <a:ext cx="1782720" cy="848520"/>
                <a:chOff x="3527640" y="5780520"/>
                <a:chExt cx="1782720" cy="848520"/>
              </a:xfrm>
            </p:grpSpPr>
            <p:sp>
              <p:nvSpPr>
                <p:cNvPr id="362" name=""/>
                <p:cNvSpPr/>
                <p:nvPr/>
              </p:nvSpPr>
              <p:spPr>
                <a:xfrm flipH="1" flipV="1" rot="5317800">
                  <a:off x="4501800" y="5634000"/>
                  <a:ext cx="311400" cy="1298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 rot="6133800">
                  <a:off x="4285800" y="5630760"/>
                  <a:ext cx="311400" cy="12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6429000">
                  <a:off x="4165920" y="5598720"/>
                  <a:ext cx="311400" cy="12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6961200">
                  <a:off x="4022640" y="5556240"/>
                  <a:ext cx="311400" cy="12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6" name=""/>
          <p:cNvSpPr/>
          <p:nvPr/>
        </p:nvSpPr>
        <p:spPr>
          <a:xfrm>
            <a:off x="3429000" y="4495680"/>
            <a:ext cx="242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Lighten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56440" y="198108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D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98920" y="19810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C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93640" y="32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12200" y="12193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31360" y="12193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a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12560" cy="4665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-914400" y="152280"/>
            <a:ext cx="10744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Text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619560" y="3342600"/>
            <a:ext cx="3456000" cy="1800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71380d">
                  <a:alpha val="0"/>
                </a:srgbClr>
              </a:gs>
              <a:gs pos="100000">
                <a:srgbClr val="f77a1d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1371600" y="1066680"/>
            <a:ext cx="1863720" cy="185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679040" y="1523880"/>
            <a:ext cx="136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650120" y="3121560"/>
            <a:ext cx="3456000" cy="20890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003b3b">
                  <a:alpha val="0"/>
                </a:srgbClr>
              </a:gs>
              <a:gs pos="100000">
                <a:srgbClr val="008080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5334120" y="990720"/>
            <a:ext cx="2085840" cy="20764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5717520" y="1523880"/>
            <a:ext cx="136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73040" y="3048120"/>
            <a:ext cx="189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predi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destr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s of 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88920" y="3048120"/>
            <a:ext cx="162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5"/>
          <p:cNvGrpSpPr/>
          <p:nvPr/>
        </p:nvGrpSpPr>
        <p:grpSpPr>
          <a:xfrm>
            <a:off x="1066680" y="4343400"/>
            <a:ext cx="2514240" cy="2133360"/>
            <a:chOff x="1066680" y="4343400"/>
            <a:chExt cx="2514240" cy="2133360"/>
          </a:xfrm>
        </p:grpSpPr>
        <p:sp>
          <p:nvSpPr>
            <p:cNvPr id="384" name="Oval 6"/>
            <p:cNvSpPr/>
            <p:nvPr/>
          </p:nvSpPr>
          <p:spPr>
            <a:xfrm>
              <a:off x="1066680" y="4343400"/>
              <a:ext cx="2514240" cy="21333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ab1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7"/>
            <p:cNvSpPr/>
            <p:nvPr/>
          </p:nvSpPr>
          <p:spPr>
            <a:xfrm>
              <a:off x="1170000" y="4431240"/>
              <a:ext cx="2304360" cy="1957680"/>
            </a:xfrm>
            <a:prstGeom prst="ellipse">
              <a:avLst/>
            </a:prstGeom>
            <a:noFill/>
            <a:ln w="38160">
              <a:solidFill>
                <a:srgbClr val="4ab1e4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8"/>
            <p:cNvSpPr/>
            <p:nvPr/>
          </p:nvSpPr>
          <p:spPr>
            <a:xfrm>
              <a:off x="1272600" y="4524120"/>
              <a:ext cx="2098440" cy="1782000"/>
            </a:xfrm>
            <a:prstGeom prst="ellipse">
              <a:avLst/>
            </a:prstGeom>
            <a:noFill/>
            <a:ln w="38160">
              <a:solidFill>
                <a:srgbClr val="4ab1e4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-380880" y="4800600"/>
            <a:ext cx="45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u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5"/>
          <p:cNvGrpSpPr/>
          <p:nvPr/>
        </p:nvGrpSpPr>
        <p:grpSpPr>
          <a:xfrm>
            <a:off x="5105520" y="4267080"/>
            <a:ext cx="2514240" cy="2133360"/>
            <a:chOff x="5105520" y="4267080"/>
            <a:chExt cx="2514240" cy="2133360"/>
          </a:xfrm>
        </p:grpSpPr>
        <p:sp>
          <p:nvSpPr>
            <p:cNvPr id="389" name="Oval 6"/>
            <p:cNvSpPr/>
            <p:nvPr/>
          </p:nvSpPr>
          <p:spPr>
            <a:xfrm>
              <a:off x="5105520" y="4267080"/>
              <a:ext cx="2514240" cy="21333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ab1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7"/>
            <p:cNvSpPr/>
            <p:nvPr/>
          </p:nvSpPr>
          <p:spPr>
            <a:xfrm>
              <a:off x="5208840" y="4354920"/>
              <a:ext cx="2304360" cy="1957680"/>
            </a:xfrm>
            <a:prstGeom prst="ellipse">
              <a:avLst/>
            </a:prstGeom>
            <a:noFill/>
            <a:ln w="38160">
              <a:solidFill>
                <a:srgbClr val="4ab1e4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8"/>
            <p:cNvSpPr/>
            <p:nvPr/>
          </p:nvSpPr>
          <p:spPr>
            <a:xfrm>
              <a:off x="5311440" y="4447800"/>
              <a:ext cx="2098440" cy="1782000"/>
            </a:xfrm>
            <a:prstGeom prst="ellipse">
              <a:avLst/>
            </a:prstGeom>
            <a:noFill/>
            <a:ln w="38160">
              <a:solidFill>
                <a:srgbClr val="4ab1e4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4114800" y="5029200"/>
            <a:ext cx="412920" cy="466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962520" y="45720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29T08:55:11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